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applause.wav" ContentType="audio/x-wav"/>
  <Override PartName="/ppt/media/image5.wmf" ContentType="image/x-wmf"/>
  <Override PartName="/ppt/media/image9.gif" ContentType="image/gi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jpeg" ContentType="image/jpeg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17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16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04040" y="-360"/>
            <a:ext cx="4209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4280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04040" y="6513120"/>
            <a:ext cx="4209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7232-8175-4AF6-B3AF-94D41BE10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5504040" y="6513480"/>
            <a:ext cx="42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84F-BCF5-47A2-9B5B-9A8C69093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34D-05E9-45A2-B683-846D2F33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4C2-FF11-4BE9-8A79-C58282A9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73D-DF67-43AA-9B73-F036364E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DEE-3D25-4B67-860D-A6673096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968-896D-4C53-ADB8-28388993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C06-530F-4AA7-AF9C-B1DD8558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985-7CE8-417C-AC58-516077F0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D62-D9E9-484E-B41C-95F44512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7B9-F7D5-4AFD-8C4C-9BFB3712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20D-1C88-47D3-ADF5-A1AB9BBB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CDD-566A-4A85-A99E-6D4E3FE0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594-7538-4D02-81B3-EDA426C5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FFE9-CC91-4040-BCC9-D5C3D0D76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x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1392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годня мы учимся вмест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, ваш учитель, и вы, мои ученики. Но в будущем ученик должен превзойти учителя, иначе в науке не будет прогресс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ooks"/>
          <p:cNvPicPr/>
          <p:nvPr/>
        </p:nvPicPr>
        <p:blipFill>
          <a:blip r:embed="rId1"/>
          <a:stretch/>
        </p:blipFill>
        <p:spPr>
          <a:xfrm>
            <a:off x="6643800" y="285840"/>
            <a:ext cx="1944720" cy="1598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мы зна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. Какое уравнение называется тригонометричес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.Уравнения какого вида называются простейшими тригонометрическими уравнени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.Дайте определение арксинуса, арккосинуса, арктангенса и арккотанген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179280" y="1484280"/>
                <a:ext cx="864072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arccos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Georgia"/>
              </a:rPr>
              <a:t>Найди  ошиб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63800" y="1125360"/>
                <a:ext cx="233532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Oval 5"/>
          <p:cNvSpPr/>
          <p:nvPr/>
        </p:nvSpPr>
        <p:spPr>
          <a:xfrm>
            <a:off x="1042920" y="1413000"/>
            <a:ext cx="576360" cy="576000"/>
          </a:xfrm>
          <a:prstGeom prst="ellipse">
            <a:avLst/>
          </a:prstGeom>
          <a:solidFill>
            <a:srgbClr val="fde9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1042920" y="2492280"/>
            <a:ext cx="576360" cy="576360"/>
          </a:xfrm>
          <a:prstGeom prst="ellipse">
            <a:avLst/>
          </a:prstGeom>
          <a:solidFill>
            <a:srgbClr val="fde9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1042920" y="3573360"/>
            <a:ext cx="576360" cy="576360"/>
          </a:xfrm>
          <a:prstGeom prst="ellipse">
            <a:avLst/>
          </a:prstGeom>
          <a:solidFill>
            <a:srgbClr val="fde9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1042920" y="4581360"/>
            <a:ext cx="576360" cy="576360"/>
          </a:xfrm>
          <a:prstGeom prst="ellipse">
            <a:avLst/>
          </a:prstGeom>
          <a:solidFill>
            <a:srgbClr val="fde9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1042920" y="5661000"/>
            <a:ext cx="576360" cy="576360"/>
          </a:xfrm>
          <a:prstGeom prst="ellipse">
            <a:avLst/>
          </a:prstGeom>
          <a:solidFill>
            <a:srgbClr val="fde9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050920" y="2276640"/>
                <a:ext cx="27352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Rectangle 12"/>
          <p:cNvSpPr/>
          <p:nvPr/>
        </p:nvSpPr>
        <p:spPr>
          <a:xfrm>
            <a:off x="4211640" y="2276640"/>
            <a:ext cx="649440" cy="914400"/>
          </a:xfrm>
          <a:prstGeom prst="rect">
            <a:avLst/>
          </a:prstGeom>
          <a:solidFill>
            <a:srgbClr val="f7fb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4211640" y="2276640"/>
                <a:ext cx="579600" cy="89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Rectangle 15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2050920" y="3284640"/>
                <a:ext cx="4751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Freeform 17"/>
          <p:cNvSpPr/>
          <p:nvPr/>
        </p:nvSpPr>
        <p:spPr>
          <a:xfrm>
            <a:off x="2117880" y="3429000"/>
            <a:ext cx="4587840" cy="685800"/>
          </a:xfrm>
          <a:custGeom>
            <a:avLst/>
            <a:gdLst>
              <a:gd name="textAreaLeft" fmla="*/ 0 w 4587840"/>
              <a:gd name="textAreaRight" fmla="*/ 4588200 w 4587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890" h="432">
                <a:moveTo>
                  <a:pt x="0" y="0"/>
                </a:moveTo>
                <a:lnTo>
                  <a:pt x="2890" y="4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087640" y="3429000"/>
            <a:ext cx="4724280" cy="625320"/>
          </a:xfrm>
          <a:custGeom>
            <a:avLst/>
            <a:gdLst>
              <a:gd name="textAreaLeft" fmla="*/ 0 w 4724280"/>
              <a:gd name="textAreaRight" fmla="*/ 4724640 w 472428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2976" h="394">
                <a:moveTo>
                  <a:pt x="0" y="394"/>
                </a:moveTo>
                <a:lnTo>
                  <a:pt x="29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9"/>
              <p:cNvSpPr txBox="1"/>
              <p:nvPr/>
            </p:nvSpPr>
            <p:spPr>
              <a:xfrm>
                <a:off x="2050920" y="4384800"/>
                <a:ext cx="2665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20"/>
          <p:cNvSpPr/>
          <p:nvPr/>
        </p:nvSpPr>
        <p:spPr>
          <a:xfrm>
            <a:off x="3492360" y="4437000"/>
            <a:ext cx="1295640" cy="914400"/>
          </a:xfrm>
          <a:prstGeom prst="rect">
            <a:avLst/>
          </a:prstGeom>
          <a:solidFill>
            <a:srgbClr val="f7fb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1"/>
              <p:cNvSpPr txBox="1"/>
              <p:nvPr/>
            </p:nvSpPr>
            <p:spPr>
              <a:xfrm>
                <a:off x="3924360" y="4437000"/>
                <a:ext cx="392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3"/>
              <p:cNvSpPr txBox="1"/>
              <p:nvPr/>
            </p:nvSpPr>
            <p:spPr>
              <a:xfrm>
                <a:off x="2050920" y="5375160"/>
                <a:ext cx="32418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Rectangle 24"/>
          <p:cNvSpPr/>
          <p:nvPr/>
        </p:nvSpPr>
        <p:spPr>
          <a:xfrm>
            <a:off x="4572000" y="5445000"/>
            <a:ext cx="649440" cy="914400"/>
          </a:xfrm>
          <a:prstGeom prst="rect">
            <a:avLst/>
          </a:prstGeom>
          <a:solidFill>
            <a:srgbClr val="f7fb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5"/>
              <p:cNvSpPr txBox="1"/>
              <p:nvPr/>
            </p:nvSpPr>
            <p:spPr>
              <a:xfrm>
                <a:off x="4572000" y="5445000"/>
                <a:ext cx="5968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6" name="Picture 26" descr="AG00373_"/>
          <p:cNvPicPr/>
          <p:nvPr/>
        </p:nvPicPr>
        <p:blipFill>
          <a:blip r:embed="rId1"/>
          <a:stretch/>
        </p:blipFill>
        <p:spPr>
          <a:xfrm>
            <a:off x="6804000" y="4398840"/>
            <a:ext cx="1936800" cy="18637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7"/>
          <p:cNvSpPr/>
          <p:nvPr/>
        </p:nvSpPr>
        <p:spPr>
          <a:xfrm>
            <a:off x="6732720" y="1125360"/>
            <a:ext cx="1944720" cy="1706760"/>
          </a:xfrm>
          <a:prstGeom prst="irregularSeal1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1752480" y="1417680"/>
            <a:ext cx="2530440" cy="411120"/>
          </a:xfrm>
          <a:custGeom>
            <a:avLst/>
            <a:gdLst>
              <a:gd name="textAreaLeft" fmla="*/ 0 w 2530440"/>
              <a:gd name="textAreaRight" fmla="*/ 2530440 w 253044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594" h="259">
                <a:moveTo>
                  <a:pt x="0" y="259"/>
                </a:moveTo>
                <a:lnTo>
                  <a:pt x="159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1874880" y="1417680"/>
            <a:ext cx="2408040" cy="487440"/>
          </a:xfrm>
          <a:custGeom>
            <a:avLst/>
            <a:gdLst>
              <a:gd name="textAreaLeft" fmla="*/ 0 w 2408040"/>
              <a:gd name="textAreaRight" fmla="*/ 2408040 w 24080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517" h="307">
                <a:moveTo>
                  <a:pt x="0" y="0"/>
                </a:moveTo>
                <a:lnTo>
                  <a:pt x="1517" y="30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Установите  соответст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476360" y="1197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x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476360" y="515772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x = -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476360" y="2781360"/>
            <a:ext cx="23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x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595008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x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476360" y="357336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x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476360" y="436572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 x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1476360" y="1989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x = 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684360" y="119700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684360" y="198900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684360" y="278136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684360" y="357336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684360" y="436572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684360" y="515772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6"/>
          <p:cNvSpPr/>
          <p:nvPr/>
        </p:nvSpPr>
        <p:spPr>
          <a:xfrm>
            <a:off x="684360" y="595008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8"/>
              <p:cNvSpPr txBox="1"/>
              <p:nvPr/>
            </p:nvSpPr>
            <p:spPr>
              <a:xfrm>
                <a:off x="4716360" y="939960"/>
                <a:ext cx="2303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6300720" y="1916280"/>
                <a:ext cx="1728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4500720" y="2349360"/>
                <a:ext cx="15840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4"/>
              <p:cNvSpPr txBox="1"/>
              <p:nvPr/>
            </p:nvSpPr>
            <p:spPr>
              <a:xfrm>
                <a:off x="6443640" y="2908440"/>
                <a:ext cx="2089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5"/>
              <p:cNvSpPr txBox="1"/>
              <p:nvPr/>
            </p:nvSpPr>
            <p:spPr>
              <a:xfrm>
                <a:off x="6732720" y="5602320"/>
                <a:ext cx="2016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6"/>
              <p:cNvSpPr txBox="1"/>
              <p:nvPr/>
            </p:nvSpPr>
            <p:spPr>
              <a:xfrm>
                <a:off x="4932360" y="3860640"/>
                <a:ext cx="2500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8"/>
              <p:cNvSpPr txBox="1"/>
              <p:nvPr/>
            </p:nvSpPr>
            <p:spPr>
              <a:xfrm>
                <a:off x="4643280" y="5013360"/>
                <a:ext cx="2448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Freeform 29"/>
          <p:cNvSpPr/>
          <p:nvPr/>
        </p:nvSpPr>
        <p:spPr>
          <a:xfrm>
            <a:off x="3468600" y="1481040"/>
            <a:ext cx="1044720" cy="10731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658" h="676">
                <a:moveTo>
                  <a:pt x="0" y="0"/>
                </a:moveTo>
                <a:lnTo>
                  <a:pt x="658" y="676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0"/>
          <p:cNvSpPr/>
          <p:nvPr/>
        </p:nvSpPr>
        <p:spPr>
          <a:xfrm>
            <a:off x="3708360" y="2276640"/>
            <a:ext cx="965160" cy="2904840"/>
          </a:xfrm>
          <a:custGeom>
            <a:avLst/>
            <a:gdLst>
              <a:gd name="textAreaLeft" fmla="*/ 0 w 965160"/>
              <a:gd name="textAreaRight" fmla="*/ 965520 w 965160"/>
              <a:gd name="textAreaTop" fmla="*/ 0 h 2904840"/>
              <a:gd name="textAreaBottom" fmla="*/ 2905200 h 2904840"/>
            </a:gdLst>
            <a:ahLst/>
            <a:rect l="textAreaLeft" t="textAreaTop" r="textAreaRight" b="textAreaBottom"/>
            <a:pathLst>
              <a:path w="608" h="1830">
                <a:moveTo>
                  <a:pt x="0" y="0"/>
                </a:moveTo>
                <a:lnTo>
                  <a:pt x="608" y="183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1"/>
          <p:cNvSpPr/>
          <p:nvPr/>
        </p:nvSpPr>
        <p:spPr>
          <a:xfrm>
            <a:off x="3635280" y="1407960"/>
            <a:ext cx="2867040" cy="1660680"/>
          </a:xfrm>
          <a:custGeom>
            <a:avLst/>
            <a:gdLst>
              <a:gd name="textAreaLeft" fmla="*/ 0 w 2867040"/>
              <a:gd name="textAreaRight" fmla="*/ 2867400 w 286704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1806" h="1046">
                <a:moveTo>
                  <a:pt x="0" y="1046"/>
                </a:moveTo>
                <a:lnTo>
                  <a:pt x="180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3635280" y="2147760"/>
            <a:ext cx="2706840" cy="1641600"/>
          </a:xfrm>
          <a:custGeom>
            <a:avLst/>
            <a:gdLst>
              <a:gd name="textAreaLeft" fmla="*/ 0 w 2706840"/>
              <a:gd name="textAreaRight" fmla="*/ 2706840 w 2706840"/>
              <a:gd name="textAreaTop" fmla="*/ 0 h 1641600"/>
              <a:gd name="textAreaBottom" fmla="*/ 1641960 h 1641600"/>
            </a:gdLst>
            <a:ahLst/>
            <a:rect l="textAreaLeft" t="textAreaTop" r="textAreaRight" b="textAreaBottom"/>
            <a:pathLst>
              <a:path w="1705" h="1034">
                <a:moveTo>
                  <a:pt x="0" y="1034"/>
                </a:moveTo>
                <a:lnTo>
                  <a:pt x="170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3"/>
          <p:cNvSpPr/>
          <p:nvPr/>
        </p:nvSpPr>
        <p:spPr>
          <a:xfrm>
            <a:off x="3708360" y="4653000"/>
            <a:ext cx="2909880" cy="1298520"/>
          </a:xfrm>
          <a:custGeom>
            <a:avLst/>
            <a:gdLst>
              <a:gd name="textAreaLeft" fmla="*/ 0 w 2909880"/>
              <a:gd name="textAreaRight" fmla="*/ 2910240 w 2909880"/>
              <a:gd name="textAreaTop" fmla="*/ 0 h 1298520"/>
              <a:gd name="textAreaBottom" fmla="*/ 1298520 h 1298520"/>
            </a:gdLst>
            <a:ahLst/>
            <a:rect l="textAreaLeft" t="textAreaTop" r="textAreaRight" b="textAreaBottom"/>
            <a:pathLst>
              <a:path w="1833" h="818">
                <a:moveTo>
                  <a:pt x="0" y="0"/>
                </a:moveTo>
                <a:lnTo>
                  <a:pt x="1833" y="81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4"/>
          <p:cNvSpPr/>
          <p:nvPr/>
        </p:nvSpPr>
        <p:spPr>
          <a:xfrm>
            <a:off x="3635280" y="4340160"/>
            <a:ext cx="1241640" cy="110484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782" h="696">
                <a:moveTo>
                  <a:pt x="0" y="696"/>
                </a:moveTo>
                <a:lnTo>
                  <a:pt x="782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5"/>
          <p:cNvSpPr/>
          <p:nvPr/>
        </p:nvSpPr>
        <p:spPr>
          <a:xfrm>
            <a:off x="3708360" y="3411360"/>
            <a:ext cx="2720880" cy="275436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1714" h="1735">
                <a:moveTo>
                  <a:pt x="0" y="1735"/>
                </a:moveTo>
                <a:lnTo>
                  <a:pt x="171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36"/>
          <p:cNvSpPr txBox="1"/>
          <p:nvPr/>
        </p:nvSpPr>
        <p:spPr>
          <a:xfrm>
            <a:off x="395280" y="765000"/>
            <a:ext cx="8137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4" name="WordArt 36"/>
          <p:cNvSpPr txBox="1"/>
          <p:nvPr/>
        </p:nvSpPr>
        <p:spPr>
          <a:xfrm>
            <a:off x="428760" y="765000"/>
            <a:ext cx="8137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pull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43353E-006 C 0.05416 -0.02358 0.1085 -0.04716 0.13489 -0.06982 C 0.16128 -0.09248 0.16562 -0.11676 0.15868 -0.13548 C 0.15173 -0.15421 0.1269 -0.17849 0.09357 -0.18196 C 0.06024 -0.18543 -0.01667 -0.16138 -0.04132 -0.15652 C -0.06598 -0.15167 -0.06007 -0.15213 -0.054 -0.15236 E">
                                      <p:cBhvr>
                                        <p:cTn id="26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0508 C -0.07084 -0.00485 0.06562 -0.00208 0.20208 0.00116 E">
                                      <p:cBhvr>
                                        <p:cTn id="26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6821E-007 C 0.08507 -0.02035 0.17014 -0.04046 0.22552 -0.05711 C 0.2809 -0.07376 0.31475 -0.07468 0.33177 -0.09942 C 0.34878 -0.12416 0.33611 -0.17503 0.32812 -0.20555 C 0.32014 -0.23607 0.3217 -0.25896 0.2842 -0.28324 C 0.2467 -0.30751 0.1625 -0.32555 0.1033 -0.35098 C 0.04409 -0.37642 -0.04254 -0.42127 -0.07136 -0.43538 E">
                                      <p:cBhvr>
                                        <p:cTn id="28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389 -0.00185 C 0.23368 0.01549 0.33142 0.06266 0.33142 0.10174 C 0.33142 0.14081 0.27968 0.20879 0.21389 0.23283 C 0.14809 0.25688 -0.00608 0.24301 -0.06389 0.24555 E">
                                      <p:cBhvr>
                                        <p:cTn id="29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3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0463 C 0.01111 -0.01919 0.02361 -0.03376 0.03993 -0.03861 C 0.05625 -0.04347 0.07934 -0.04046 0.09705 -0.03422 C 0.11475 -0.02798 0.13767 -0.02451 0.1467 -0.00139 C 0.15573 0.02173 0.16041 0.06821 0.15139 0.10428 C 0.14236 0.14035 0.12604 0.1926 0.09236 0.21526 C 0.05868 0.23792 0.00416 0.23514 -0.05052 0.24046 C -0.10521 0.24578 -0.17084 0.24624 -0.23629 0.24694 E">
                                      <p:cBhvr>
                                        <p:cTn id="30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3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35838E-007 C -0.0257 0.01873 -0.05139 0.03769 -0.06667 0.03584 C -0.08195 0.03399 -0.09653 0.00763 -0.09202 -0.01064 C -0.0875 -0.0289 -0.06389 -0.06173 -0.03976 -0.07399 C -0.01563 -0.08624 0.02535 -0.07746 0.05243 -0.08462 C 0.07951 -0.09179 0.11232 -0.0948 0.12326 -0.11723 C 0.1342 -0.13965 0.1335 -0.20301 0.11857 -0.21873 C 0.10364 -0.23445 0.06302 -0.21873 0.03333 -0.21156 C 0.00364 -0.20439 -0.02552 -0.18289 -0.06025 -0.17549 C -0.09497 -0.16809 -0.13542 -0.16254 -0.17465 -0.16717 C -0.21389 -0.17179 -0.25469 -0.18752 -0.29531 -0.20301 E">
                                      <p:cBhvr>
                                        <p:cTn id="31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3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86127E-006 C 0.02327 0.00693 0.0467 0.0141 0.07309 0.02543 C 0.09948 0.03676 0.13698 0.04832 0.15886 0.06774 C 0.18073 0.08716 0.2467 0.12601 0.20486 0.14173 C 0.16302 0.15745 0.03542 0.15999 -0.09201 0.16277 E">
                                      <p:cBhvr>
                                        <p:cTn id="32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3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6069E-006 C 0.01459 -0.02358 0.02917 -0.04693 0.04132 -0.04878 C 0.05348 -0.05063 0.06702 -0.03075 0.07309 -0.01063 C 0.07917 0.00948 0.07431 0.04717 0.07778 0.07168 C 0.08125 0.09619 0.08438 0.13457 0.09358 0.13734 C 0.10278 0.14012 0.12379 0.09041 0.13334 0.08879 C 0.14289 0.08717 0.14584 0.10613 0.15087 0.12694 C 0.15591 0.14775 0.16094 0.19098 0.16355 0.21364 C 0.16615 0.2363 0.16806 0.23885 0.16684 0.26243 C 0.16563 0.28601 0.16233 0.32763 0.15573 0.35538 C 0.14914 0.38312 0.14566 0.40856 0.12709 0.42937 C 0.10851 0.45017 0.07466 0.48116 0.04445 0.47977 C 0.01424 0.47838 -0.0026 0.43052 -0.05399 0.42058 C -0.10538 0.41064 -0.18454 0.41549 -0.26354 0.42058 E">
                                      <p:cBhvr>
                                        <p:cTn id="34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Georgia"/>
              </a:rPr>
              <a:t>Решение  какого  уравнения  показано  на  тригонометрической  окруж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500040" y="17859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7859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Oval 4"/>
          <p:cNvSpPr/>
          <p:nvPr/>
        </p:nvSpPr>
        <p:spPr>
          <a:xfrm>
            <a:off x="971640" y="3068640"/>
            <a:ext cx="144360" cy="122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3780000" y="3068640"/>
            <a:ext cx="144360" cy="122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6"/>
          <p:cNvSpPr/>
          <p:nvPr/>
        </p:nvSpPr>
        <p:spPr>
          <a:xfrm>
            <a:off x="1036800" y="3124080"/>
            <a:ext cx="2803320" cy="15840"/>
          </a:xfrm>
          <a:custGeom>
            <a:avLst/>
            <a:gdLst>
              <a:gd name="textAreaLeft" fmla="*/ 0 w 2803320"/>
              <a:gd name="textAreaRight" fmla="*/ 2803320 w 2803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766" h="10">
                <a:moveTo>
                  <a:pt x="1766" y="0"/>
                </a:moveTo>
                <a:lnTo>
                  <a:pt x="0" y="10"/>
                </a:lnTo>
              </a:path>
            </a:pathLst>
          </a:custGeom>
          <a:noFill/>
          <a:ln w="28440">
            <a:solidFill>
              <a:srgbClr val="0099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2050920" y="2708280"/>
                <a:ext cx="3556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8"/>
          <p:cNvSpPr/>
          <p:nvPr/>
        </p:nvSpPr>
        <p:spPr>
          <a:xfrm>
            <a:off x="5364000" y="2276640"/>
            <a:ext cx="237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x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0"/>
              <p:cNvSpPr txBox="1"/>
              <p:nvPr/>
            </p:nvSpPr>
            <p:spPr>
              <a:xfrm>
                <a:off x="5219640" y="3260880"/>
                <a:ext cx="3384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5219640" y="4653000"/>
                <a:ext cx="35276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Oval 13"/>
          <p:cNvSpPr/>
          <p:nvPr/>
        </p:nvSpPr>
        <p:spPr>
          <a:xfrm>
            <a:off x="179280" y="260280"/>
            <a:ext cx="576360" cy="627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5"/>
              <p:cNvSpPr txBox="1"/>
              <p:nvPr/>
            </p:nvSpPr>
            <p:spPr>
              <a:xfrm>
                <a:off x="3851280" y="2133720"/>
                <a:ext cx="468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7"/>
              <p:cNvSpPr txBox="1"/>
              <p:nvPr/>
            </p:nvSpPr>
            <p:spPr>
              <a:xfrm>
                <a:off x="468360" y="2133720"/>
                <a:ext cx="627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Georgia"/>
              </a:rPr>
              <a:t>Решение  какого  уравнения  показано  на  тригонометрической  окруж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Oval 4"/>
          <p:cNvSpPr/>
          <p:nvPr/>
        </p:nvSpPr>
        <p:spPr>
          <a:xfrm>
            <a:off x="3492360" y="494172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3492360" y="278136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3565440" y="2835360"/>
            <a:ext cx="15840" cy="2178000"/>
          </a:xfrm>
          <a:custGeom>
            <a:avLst/>
            <a:gdLst>
              <a:gd name="textAreaLeft" fmla="*/ 0 w 15840"/>
              <a:gd name="textAreaRight" fmla="*/ 16200 w 15840"/>
              <a:gd name="textAreaTop" fmla="*/ 0 h 2178000"/>
              <a:gd name="textAreaBottom" fmla="*/ 2178360 h 2178000"/>
            </a:gdLst>
            <a:ahLst/>
            <a:rect l="textAreaLeft" t="textAreaTop" r="textAreaRight" b="textAreaBottom"/>
            <a:pathLst>
              <a:path w="10" h="1372">
                <a:moveTo>
                  <a:pt x="0" y="0"/>
                </a:moveTo>
                <a:lnTo>
                  <a:pt x="10" y="1372"/>
                </a:lnTo>
              </a:path>
            </a:pathLst>
          </a:custGeom>
          <a:noFill/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2987640" y="3789360"/>
                <a:ext cx="6224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8"/>
          <p:cNvSpPr/>
          <p:nvPr/>
        </p:nvSpPr>
        <p:spPr>
          <a:xfrm>
            <a:off x="5364000" y="2276640"/>
            <a:ext cx="237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x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5114880" y="3260880"/>
                <a:ext cx="3595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5357880" y="4653000"/>
                <a:ext cx="32511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Oval 13"/>
          <p:cNvSpPr/>
          <p:nvPr/>
        </p:nvSpPr>
        <p:spPr>
          <a:xfrm>
            <a:off x="179280" y="260280"/>
            <a:ext cx="576360" cy="627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5"/>
              <p:cNvSpPr txBox="1"/>
              <p:nvPr/>
            </p:nvSpPr>
            <p:spPr>
              <a:xfrm>
                <a:off x="3564000" y="1844640"/>
                <a:ext cx="371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7"/>
              <p:cNvSpPr txBox="1"/>
              <p:nvPr/>
            </p:nvSpPr>
            <p:spPr>
              <a:xfrm>
                <a:off x="3492360" y="4724280"/>
                <a:ext cx="7099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Georgia"/>
              </a:rPr>
              <a:t>Решение  какого  уравнения  показано  на  тригонометрической  окруж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Oval 4"/>
          <p:cNvSpPr/>
          <p:nvPr/>
        </p:nvSpPr>
        <p:spPr>
          <a:xfrm>
            <a:off x="971640" y="4653000"/>
            <a:ext cx="144360" cy="122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3780000" y="3068640"/>
            <a:ext cx="144360" cy="1224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>
            <a:off x="1020600" y="2362320"/>
            <a:ext cx="4191120" cy="234612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346120"/>
              <a:gd name="textAreaBottom" fmla="*/ 2346480 h 2346120"/>
            </a:gdLst>
            <a:ahLst/>
            <a:rect l="textAreaLeft" t="textAreaTop" r="textAreaRight" b="textAreaBottom"/>
            <a:pathLst>
              <a:path w="2640" h="1478">
                <a:moveTo>
                  <a:pt x="2640" y="0"/>
                </a:moveTo>
                <a:lnTo>
                  <a:pt x="0" y="1478"/>
                </a:lnTo>
              </a:path>
            </a:pathLst>
          </a:custGeom>
          <a:noFill/>
          <a:ln w="28440">
            <a:solidFill>
              <a:srgbClr val="996633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4932360" y="1730520"/>
                <a:ext cx="57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Rectangle 8"/>
          <p:cNvSpPr/>
          <p:nvPr/>
        </p:nvSpPr>
        <p:spPr>
          <a:xfrm>
            <a:off x="5796000" y="3860640"/>
            <a:ext cx="23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tg x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5580000" y="5013360"/>
                <a:ext cx="31021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2"/>
          <p:cNvSpPr/>
          <p:nvPr/>
        </p:nvSpPr>
        <p:spPr>
          <a:xfrm>
            <a:off x="179280" y="260280"/>
            <a:ext cx="576360" cy="627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4"/>
              <p:cNvSpPr txBox="1"/>
              <p:nvPr/>
            </p:nvSpPr>
            <p:spPr>
              <a:xfrm>
                <a:off x="3708360" y="2205000"/>
                <a:ext cx="371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517680" y="2332080"/>
            <a:ext cx="7056360" cy="144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445" h="1">
                <a:moveTo>
                  <a:pt x="0" y="0"/>
                </a:moveTo>
                <a:lnTo>
                  <a:pt x="44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Georgia"/>
              </a:rPr>
              <a:t>Решение  какого  уравнения  показано  на  тригонометрической  окруж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Oval 4"/>
          <p:cNvSpPr/>
          <p:nvPr/>
        </p:nvSpPr>
        <p:spPr>
          <a:xfrm>
            <a:off x="971640" y="3068640"/>
            <a:ext cx="1443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780000" y="465300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1020600" y="3139920"/>
            <a:ext cx="3048120" cy="17211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721160"/>
              <a:gd name="textAreaBottom" fmla="*/ 1721520 h 1721160"/>
            </a:gdLst>
            <a:ahLst/>
            <a:rect l="textAreaLeft" t="textAreaTop" r="textAreaRight" b="textAreaBottom"/>
            <a:pathLst>
              <a:path w="1920" h="1084">
                <a:moveTo>
                  <a:pt x="1920" y="10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"/>
              <p:cNvSpPr txBox="1"/>
              <p:nvPr/>
            </p:nvSpPr>
            <p:spPr>
              <a:xfrm>
                <a:off x="4140360" y="4365720"/>
                <a:ext cx="8586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Rectangle 8"/>
          <p:cNvSpPr/>
          <p:nvPr/>
        </p:nvSpPr>
        <p:spPr>
          <a:xfrm>
            <a:off x="5364000" y="2276640"/>
            <a:ext cx="237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 x =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0"/>
              <p:cNvSpPr txBox="1"/>
              <p:nvPr/>
            </p:nvSpPr>
            <p:spPr>
              <a:xfrm>
                <a:off x="5076720" y="3284640"/>
                <a:ext cx="3384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179280" y="260280"/>
            <a:ext cx="576360" cy="627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4"/>
              <p:cNvSpPr txBox="1"/>
              <p:nvPr/>
            </p:nvSpPr>
            <p:spPr>
              <a:xfrm>
                <a:off x="3348000" y="4797360"/>
                <a:ext cx="628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6"/>
          <p:cNvSpPr/>
          <p:nvPr/>
        </p:nvSpPr>
        <p:spPr>
          <a:xfrm>
            <a:off x="4054320" y="1523880"/>
            <a:ext cx="14400" cy="4496040"/>
          </a:xfrm>
          <a:custGeom>
            <a:avLst/>
            <a:gdLst>
              <a:gd name="textAreaLeft" fmla="*/ 0 w 14400"/>
              <a:gd name="textAreaRight" fmla="*/ 14760 w 1440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9" h="2832">
                <a:moveTo>
                  <a:pt x="0" y="2832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Проверочная 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907920"/>
          <a:ext cx="8713800" cy="57492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00"/>
                          </a:solidFill>
                          <a:latin typeface="Georgia"/>
                        </a:rPr>
                        <a:t>Вариант 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Вариант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17"/>
          <p:cNvSpPr/>
          <p:nvPr/>
        </p:nvSpPr>
        <p:spPr>
          <a:xfrm>
            <a:off x="179280" y="1628640"/>
            <a:ext cx="4321440" cy="9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ово  будет  реш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x = a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 а 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4572000" y="1628640"/>
            <a:ext cx="432108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ово  будет  реш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 x = a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 а 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179280" y="2637000"/>
            <a:ext cx="432144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 каком  значении 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уравнение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x = a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4572000" y="2637000"/>
            <a:ext cx="432108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каком  значении  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 x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179280" y="3860640"/>
            <a:ext cx="4321440" cy="9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 формул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ется  это  реш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6"/>
          <p:cNvSpPr/>
          <p:nvPr/>
        </p:nvSpPr>
        <p:spPr>
          <a:xfrm>
            <a:off x="4572000" y="3860640"/>
            <a:ext cx="432108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 формул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ется  это  реш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179280" y="4869000"/>
            <a:ext cx="4321440" cy="151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 какой  оси отклад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начение  а  при  ре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x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572000" y="4869000"/>
            <a:ext cx="4321080" cy="151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 какой  оси отклад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начение  а  при  ре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 x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350"/>
                            </p:stCondLst>
                            <p:childTnLst>
                              <p:par>
                                <p:cTn id="6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850"/>
                            </p:stCondLst>
                            <p:childTnLst>
                              <p:par>
                                <p:cTn id="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Проверочная 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9280" y="907920"/>
          <a:ext cx="8713800" cy="57492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00"/>
                          </a:solidFill>
                          <a:latin typeface="Georgia"/>
                        </a:rPr>
                        <a:t>Вариант 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Вариант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11"/>
          <p:cNvSpPr/>
          <p:nvPr/>
        </p:nvSpPr>
        <p:spPr>
          <a:xfrm>
            <a:off x="179280" y="1628640"/>
            <a:ext cx="4321440" cy="9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 каком  промежу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os 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4572000" y="1628640"/>
            <a:ext cx="432108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В  каком  промежу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ходитс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csin 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79280" y="2637000"/>
            <a:ext cx="432144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 каком  промежу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ходится  значение  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572000" y="2637000"/>
            <a:ext cx="432108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6.  В  каком  промежу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ходится  значение  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179280" y="3860640"/>
            <a:ext cx="4321440" cy="9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 будет 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x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0" y="3860640"/>
            <a:ext cx="432108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.  Каким  будет 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 x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?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179280" y="4869000"/>
            <a:ext cx="432144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 Каким  будет 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x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4572000" y="4869000"/>
            <a:ext cx="432108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.  Каким  будет 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 x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1?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-506520" y="1584360"/>
            <a:ext cx="9528120" cy="3921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504800" y="407880"/>
            <a:ext cx="5492880" cy="95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Проверочная 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907920"/>
          <a:ext cx="8713800" cy="57492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00"/>
                          </a:solidFill>
                          <a:latin typeface="Georgia"/>
                        </a:rPr>
                        <a:t>Вариант 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Вариант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11"/>
          <p:cNvSpPr/>
          <p:nvPr/>
        </p:nvSpPr>
        <p:spPr>
          <a:xfrm>
            <a:off x="179280" y="1628640"/>
            <a:ext cx="4321440" cy="9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.  Каким  будет 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x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4572000" y="1628640"/>
            <a:ext cx="432108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.  Каким  будет 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 x = 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79280" y="2637000"/>
            <a:ext cx="432144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ему  равняе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ccos ( - 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4572000" y="2637000"/>
            <a:ext cx="432108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ему  равняе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csin ( - 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79280" y="3716280"/>
            <a:ext cx="4321440" cy="9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каком  промежу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 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572000" y="3716280"/>
            <a:ext cx="432108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 каком  промежу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ходитс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cctg 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179280" y="4724280"/>
            <a:ext cx="4321440" cy="1513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ой  формул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ражается 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g x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572000" y="4724280"/>
            <a:ext cx="4321080" cy="15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2.  Какой  формул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ражается 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авнения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g x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9144000" cy="6724800"/>
        </p:xfrm>
        <a:graphic>
          <a:graphicData uri="http://schemas.openxmlformats.org/drawingml/2006/table">
            <a:tbl>
              <a:tblPr/>
              <a:tblGrid>
                <a:gridCol w="826920"/>
                <a:gridCol w="3961080"/>
                <a:gridCol w="43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00"/>
                          </a:solidFill>
                          <a:latin typeface="Georgia"/>
                        </a:rPr>
                        <a:t>Вариант 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Вариант 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 оси  О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 оси  О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f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2ff"/>
                    </a:solidFill>
                  </a:tcPr>
                </a:tc>
              </a:tr>
            </a:tbl>
          </a:graphicData>
        </a:graphic>
      </p:graphicFrame>
      <p:sp>
        <p:nvSpPr>
          <p:cNvPr id="242" name="Rectangle 9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95"/>
              <p:cNvSpPr txBox="1"/>
              <p:nvPr/>
            </p:nvSpPr>
            <p:spPr>
              <a:xfrm>
                <a:off x="1547640" y="1004760"/>
                <a:ext cx="79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9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97"/>
              <p:cNvSpPr txBox="1"/>
              <p:nvPr/>
            </p:nvSpPr>
            <p:spPr>
              <a:xfrm>
                <a:off x="5508720" y="1003320"/>
                <a:ext cx="792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Rectangle 10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99"/>
              <p:cNvSpPr txBox="1"/>
              <p:nvPr/>
            </p:nvSpPr>
            <p:spPr>
              <a:xfrm>
                <a:off x="971640" y="1593720"/>
                <a:ext cx="3527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10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06"/>
              <p:cNvSpPr txBox="1"/>
              <p:nvPr/>
            </p:nvSpPr>
            <p:spPr>
              <a:xfrm>
                <a:off x="5148360" y="1557360"/>
                <a:ext cx="38034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1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09"/>
              <p:cNvSpPr txBox="1"/>
              <p:nvPr/>
            </p:nvSpPr>
            <p:spPr>
              <a:xfrm>
                <a:off x="1187280" y="2565360"/>
                <a:ext cx="9352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Rectangle 1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11"/>
              <p:cNvSpPr txBox="1"/>
              <p:nvPr/>
            </p:nvSpPr>
            <p:spPr>
              <a:xfrm>
                <a:off x="5022720" y="2600280"/>
                <a:ext cx="199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/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Rectangle 1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13"/>
              <p:cNvSpPr txBox="1"/>
              <p:nvPr/>
            </p:nvSpPr>
            <p:spPr>
              <a:xfrm>
                <a:off x="1187280" y="3105000"/>
                <a:ext cx="9367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15"/>
              <p:cNvSpPr txBox="1"/>
              <p:nvPr/>
            </p:nvSpPr>
            <p:spPr>
              <a:xfrm>
                <a:off x="5076720" y="3141720"/>
                <a:ext cx="933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Rectangle 11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7"/>
              <p:cNvSpPr txBox="1"/>
              <p:nvPr/>
            </p:nvSpPr>
            <p:spPr>
              <a:xfrm>
                <a:off x="900000" y="3562200"/>
                <a:ext cx="1471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2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19"/>
              <p:cNvSpPr txBox="1"/>
              <p:nvPr/>
            </p:nvSpPr>
            <p:spPr>
              <a:xfrm>
                <a:off x="2627280" y="3573360"/>
                <a:ext cx="936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12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21"/>
              <p:cNvSpPr txBox="1"/>
              <p:nvPr/>
            </p:nvSpPr>
            <p:spPr>
              <a:xfrm>
                <a:off x="3348000" y="4149720"/>
                <a:ext cx="863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Rectangle 12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23"/>
              <p:cNvSpPr txBox="1"/>
              <p:nvPr/>
            </p:nvSpPr>
            <p:spPr>
              <a:xfrm>
                <a:off x="3635280" y="4660920"/>
                <a:ext cx="9572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12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25"/>
              <p:cNvSpPr txBox="1"/>
              <p:nvPr/>
            </p:nvSpPr>
            <p:spPr>
              <a:xfrm>
                <a:off x="3635280" y="6168960"/>
                <a:ext cx="959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1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27"/>
              <p:cNvSpPr txBox="1"/>
              <p:nvPr/>
            </p:nvSpPr>
            <p:spPr>
              <a:xfrm>
                <a:off x="826920" y="4653000"/>
                <a:ext cx="2705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Rectangle 1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29"/>
              <p:cNvSpPr txBox="1"/>
              <p:nvPr/>
            </p:nvSpPr>
            <p:spPr>
              <a:xfrm>
                <a:off x="954000" y="4125960"/>
                <a:ext cx="1962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13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131"/>
              <p:cNvSpPr txBox="1"/>
              <p:nvPr/>
            </p:nvSpPr>
            <p:spPr>
              <a:xfrm>
                <a:off x="1258920" y="5218200"/>
                <a:ext cx="2017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13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33"/>
              <p:cNvSpPr txBox="1"/>
              <p:nvPr/>
            </p:nvSpPr>
            <p:spPr>
              <a:xfrm>
                <a:off x="5076720" y="5157720"/>
                <a:ext cx="15829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3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35"/>
              <p:cNvSpPr txBox="1"/>
              <p:nvPr/>
            </p:nvSpPr>
            <p:spPr>
              <a:xfrm>
                <a:off x="1027080" y="6242040"/>
                <a:ext cx="2552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Rectangle 1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37"/>
              <p:cNvSpPr txBox="1"/>
              <p:nvPr/>
            </p:nvSpPr>
            <p:spPr>
              <a:xfrm>
                <a:off x="7812000" y="6237360"/>
                <a:ext cx="9669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14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39"/>
              <p:cNvSpPr txBox="1"/>
              <p:nvPr/>
            </p:nvSpPr>
            <p:spPr>
              <a:xfrm>
                <a:off x="6659640" y="4653000"/>
                <a:ext cx="966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Rectangle 1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141"/>
              <p:cNvSpPr txBox="1"/>
              <p:nvPr/>
            </p:nvSpPr>
            <p:spPr>
              <a:xfrm>
                <a:off x="7740720" y="4149720"/>
                <a:ext cx="965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1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43"/>
              <p:cNvSpPr txBox="1"/>
              <p:nvPr/>
            </p:nvSpPr>
            <p:spPr>
              <a:xfrm>
                <a:off x="7740720" y="3592440"/>
                <a:ext cx="1008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1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45"/>
              <p:cNvSpPr txBox="1"/>
              <p:nvPr/>
            </p:nvSpPr>
            <p:spPr>
              <a:xfrm>
                <a:off x="5076720" y="3619440"/>
                <a:ext cx="2590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1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47"/>
              <p:cNvSpPr txBox="1"/>
              <p:nvPr/>
            </p:nvSpPr>
            <p:spPr>
              <a:xfrm>
                <a:off x="4932360" y="4106880"/>
                <a:ext cx="2735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15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49"/>
              <p:cNvSpPr txBox="1"/>
              <p:nvPr/>
            </p:nvSpPr>
            <p:spPr>
              <a:xfrm>
                <a:off x="5076720" y="4581360"/>
                <a:ext cx="136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πk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15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51"/>
              <p:cNvSpPr txBox="1"/>
              <p:nvPr/>
            </p:nvSpPr>
            <p:spPr>
              <a:xfrm>
                <a:off x="4826160" y="6205680"/>
                <a:ext cx="2947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tg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15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53"/>
              <p:cNvSpPr txBox="1"/>
              <p:nvPr/>
            </p:nvSpPr>
            <p:spPr>
              <a:xfrm>
                <a:off x="1116000" y="5680080"/>
                <a:ext cx="2160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5" name="Rectangle 15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55"/>
              <p:cNvSpPr txBox="1"/>
              <p:nvPr/>
            </p:nvSpPr>
            <p:spPr>
              <a:xfrm>
                <a:off x="5003640" y="5672160"/>
                <a:ext cx="1081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144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 Эйнштейн говорил та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приходится делить время между политикой и уравнениями. Однако уравнения, по-моему, гораздо важнее. Политика существует только для данного момента, а уравнения будут существовать вечно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ы думаете, когда люди впервые столкнулись с тригонометрическими уравнениям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PE07677_"/>
          <p:cNvPicPr/>
          <p:nvPr/>
        </p:nvPicPr>
        <p:blipFill>
          <a:blip r:embed="rId1"/>
          <a:stretch/>
        </p:blipFill>
        <p:spPr>
          <a:xfrm>
            <a:off x="1357200" y="3143160"/>
            <a:ext cx="3281400" cy="3289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правьте ошибки  и   подумайт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б их причинах».</a:t>
            </a:r>
            <a:br>
              <a:rPr sz="32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28800" y="1857240"/>
          <a:ext cx="7786440" cy="4143600"/>
        </p:xfrm>
        <a:graphic>
          <a:graphicData uri="http://schemas.openxmlformats.org/drawingml/2006/table">
            <a:tbl>
              <a:tblPr/>
              <a:tblGrid>
                <a:gridCol w="2595600"/>
                <a:gridCol w="2595240"/>
                <a:gridCol w="2595600"/>
              </a:tblGrid>
              <a:tr h="69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с ошиб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ый от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2" name="Object 14"/>
              <p:cNvSpPr txBox="1"/>
              <p:nvPr/>
            </p:nvSpPr>
            <p:spPr>
              <a:xfrm>
                <a:off x="1357200" y="2500200"/>
                <a:ext cx="1143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3786120" y="3286080"/>
                <a:ext cx="2071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6429240" y="2577960"/>
                <a:ext cx="2071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1"/>
              <p:cNvSpPr txBox="1"/>
              <p:nvPr/>
            </p:nvSpPr>
            <p:spPr>
              <a:xfrm>
                <a:off x="1428840" y="3214800"/>
                <a:ext cx="1143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3786120" y="2571840"/>
                <a:ext cx="2201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6429240" y="3286080"/>
                <a:ext cx="2000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8"/>
              <p:cNvSpPr txBox="1"/>
              <p:nvPr/>
            </p:nvSpPr>
            <p:spPr>
              <a:xfrm>
                <a:off x="1785960" y="5214960"/>
                <a:ext cx="1000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7"/>
              <p:cNvSpPr txBox="1"/>
              <p:nvPr/>
            </p:nvSpPr>
            <p:spPr>
              <a:xfrm>
                <a:off x="6500880" y="5429160"/>
                <a:ext cx="1717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3571920" y="5357880"/>
                <a:ext cx="236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1643040" y="4643280"/>
                <a:ext cx="1714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571920" y="4643280"/>
                <a:ext cx="2643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1428840" y="3929040"/>
                <a:ext cx="130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3571920" y="4000680"/>
                <a:ext cx="2620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"/>
              <p:cNvSpPr txBox="1"/>
              <p:nvPr/>
            </p:nvSpPr>
            <p:spPr>
              <a:xfrm>
                <a:off x="6357960" y="3938760"/>
                <a:ext cx="2367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6" name="Picture 1" descr=""/>
          <p:cNvPicPr/>
          <p:nvPr/>
        </p:nvPicPr>
        <p:blipFill>
          <a:blip r:embed="rId1"/>
          <a:stretch/>
        </p:blipFill>
        <p:spPr>
          <a:xfrm>
            <a:off x="6953400" y="285840"/>
            <a:ext cx="2190600" cy="16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7" name="Содержимое 19"/>
              <p:cNvSpPr txBox="1"/>
              <p:nvPr/>
            </p:nvSpPr>
            <p:spPr>
              <a:xfrm>
                <a:off x="7000920" y="4643280"/>
                <a:ext cx="69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  <p:pic>
        <p:nvPicPr>
          <p:cNvPr id="319" name="Содержимое 5" descr=""/>
          <p:cNvPicPr/>
          <p:nvPr/>
        </p:nvPicPr>
        <p:blipFill>
          <a:blip r:embed="rId3"/>
          <a:stretch/>
        </p:blipFill>
        <p:spPr>
          <a:xfrm>
            <a:off x="450720" y="1579680"/>
            <a:ext cx="8242560" cy="4619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971640" y="2491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кажи мне – и я забуду, покажи мне – и я запомню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 мне действовать самостоятельно – и я научус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0232133"/>
          <p:cNvPicPr/>
          <p:nvPr/>
        </p:nvPicPr>
        <p:blipFill>
          <a:blip r:embed="rId1"/>
          <a:stretch/>
        </p:blipFill>
        <p:spPr>
          <a:xfrm>
            <a:off x="5724360" y="3833640"/>
            <a:ext cx="2948040" cy="302436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3"/>
          <p:cNvSpPr/>
          <p:nvPr/>
        </p:nvSpPr>
        <p:spPr>
          <a:xfrm>
            <a:off x="1116000" y="54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фуций-  древний китайский мыслитель и филосо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чка ЕГЭ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ти все корни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6"/>
              <p:cNvSpPr txBox="1"/>
              <p:nvPr/>
            </p:nvSpPr>
            <p:spPr>
              <a:xfrm>
                <a:off x="1214280" y="2286000"/>
                <a:ext cx="70279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Прямоугольник 4"/>
          <p:cNvSpPr/>
          <p:nvPr/>
        </p:nvSpPr>
        <p:spPr>
          <a:xfrm>
            <a:off x="1357200" y="357192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торые удовлетворяют усл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5"/>
              <p:cNvSpPr txBox="1"/>
              <p:nvPr/>
            </p:nvSpPr>
            <p:spPr>
              <a:xfrm>
                <a:off x="3000240" y="4572000"/>
                <a:ext cx="2571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8" name="Object 6"/>
              <p:cNvSpPr txBox="1"/>
              <p:nvPr/>
            </p:nvSpPr>
            <p:spPr>
              <a:xfrm>
                <a:off x="4643280" y="0"/>
                <a:ext cx="3357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5"/>
              <p:cNvSpPr txBox="1"/>
              <p:nvPr/>
            </p:nvSpPr>
            <p:spPr>
              <a:xfrm>
                <a:off x="5000760" y="642960"/>
                <a:ext cx="15699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1643040" y="2714760"/>
                <a:ext cx="12542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1357200" y="3286080"/>
                <a:ext cx="13035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"/>
              <p:cNvSpPr txBox="1"/>
              <p:nvPr/>
            </p:nvSpPr>
            <p:spPr>
              <a:xfrm>
                <a:off x="1500120" y="4071960"/>
                <a:ext cx="28386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πm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Rectangle 7"/>
          <p:cNvSpPr/>
          <p:nvPr/>
        </p:nvSpPr>
        <p:spPr>
          <a:xfrm>
            <a:off x="223920" y="145080"/>
            <a:ext cx="43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ер 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йти все корни урав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214640" y="71496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торые удовлетворяют услов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1735920" y="1292400"/>
            <a:ext cx="268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si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– cos 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+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si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2si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1 + 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0" y="383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0" y="512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4"/>
              <p:cNvSpPr txBox="1"/>
              <p:nvPr/>
            </p:nvSpPr>
            <p:spPr>
              <a:xfrm>
                <a:off x="3786120" y="5929200"/>
                <a:ext cx="2160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Прямая соединительная линия 18"/>
          <p:cNvSpPr/>
          <p:nvPr/>
        </p:nvSpPr>
        <p:spPr>
          <a:xfrm>
            <a:off x="5143680" y="2928960"/>
            <a:ext cx="1755720" cy="1004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5000760" y="2428920"/>
            <a:ext cx="2000160" cy="2000160"/>
          </a:xfrm>
          <a:prstGeom prst="ellipse">
            <a:avLst/>
          </a:prstGeom>
          <a:noFill/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4857840" y="3429000"/>
            <a:ext cx="23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6072120" y="342900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715000" y="2000160"/>
            <a:ext cx="210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5118120" y="2908440"/>
            <a:ext cx="61920" cy="6192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25"/>
          <p:cNvSpPr/>
          <p:nvPr/>
        </p:nvSpPr>
        <p:spPr>
          <a:xfrm flipH="1">
            <a:off x="5175360" y="2928960"/>
            <a:ext cx="1728720" cy="993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Прямая со стрелкой 27"/>
          <p:cNvCxnSpPr/>
          <p:nvPr/>
        </p:nvCxnSpPr>
        <p:spPr>
          <a:xfrm flipV="1">
            <a:off x="6001200" y="2214000"/>
            <a:ext cx="1080" cy="25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Text Box 7"/>
          <p:cNvSpPr/>
          <p:nvPr/>
        </p:nvSpPr>
        <p:spPr>
          <a:xfrm>
            <a:off x="7143840" y="3500280"/>
            <a:ext cx="24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5"/>
          <p:cNvSpPr/>
          <p:nvPr/>
        </p:nvSpPr>
        <p:spPr>
          <a:xfrm>
            <a:off x="6832440" y="2914560"/>
            <a:ext cx="71640" cy="7164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5103720" y="3886200"/>
            <a:ext cx="71640" cy="7128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6"/>
              <p:cNvSpPr txBox="1"/>
              <p:nvPr/>
            </p:nvSpPr>
            <p:spPr>
              <a:xfrm>
                <a:off x="6072120" y="2071800"/>
                <a:ext cx="149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7"/>
              <p:cNvSpPr txBox="1"/>
              <p:nvPr/>
            </p:nvSpPr>
            <p:spPr>
              <a:xfrm>
                <a:off x="6072120" y="4500720"/>
                <a:ext cx="217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AutoShape 16"/>
          <p:cNvSpPr/>
          <p:nvPr/>
        </p:nvSpPr>
        <p:spPr>
          <a:xfrm>
            <a:off x="6846840" y="3881520"/>
            <a:ext cx="61920" cy="6012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8"/>
              <p:cNvSpPr txBox="1"/>
              <p:nvPr/>
            </p:nvSpPr>
            <p:spPr>
              <a:xfrm>
                <a:off x="6878520" y="3929040"/>
                <a:ext cx="252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9"/>
              <p:cNvSpPr txBox="1"/>
              <p:nvPr/>
            </p:nvSpPr>
            <p:spPr>
              <a:xfrm>
                <a:off x="4818240" y="3929040"/>
                <a:ext cx="230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0"/>
              <p:cNvSpPr txBox="1"/>
              <p:nvPr/>
            </p:nvSpPr>
            <p:spPr>
              <a:xfrm>
                <a:off x="4929120" y="2500200"/>
                <a:ext cx="2174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1"/>
              <p:cNvSpPr txBox="1"/>
              <p:nvPr/>
            </p:nvSpPr>
            <p:spPr>
              <a:xfrm>
                <a:off x="6929280" y="2643120"/>
                <a:ext cx="149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Rectangle 22"/>
          <p:cNvSpPr/>
          <p:nvPr/>
        </p:nvSpPr>
        <p:spPr>
          <a:xfrm>
            <a:off x="1654920" y="550440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помощью числовой окружност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1868040" y="214920"/>
            <a:ext cx="58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ерем корни, удовлетворяющие условию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4286160" y="571680"/>
                <a:ext cx="27860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2214720" y="1143000"/>
                <a:ext cx="3143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π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π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2286000" y="1500120"/>
                <a:ext cx="2143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5"/>
          <p:cNvSpPr/>
          <p:nvPr/>
        </p:nvSpPr>
        <p:spPr>
          <a:xfrm>
            <a:off x="1722960" y="6433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первой сер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19600" y="143748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722240" y="1859400"/>
            <a:ext cx="429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овательно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0  или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1, то 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"/>
              <p:cNvSpPr txBox="1"/>
              <p:nvPr/>
            </p:nvSpPr>
            <p:spPr>
              <a:xfrm>
                <a:off x="6000840" y="1857240"/>
                <a:ext cx="8650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11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6"/>
              <p:cNvSpPr txBox="1"/>
              <p:nvPr/>
            </p:nvSpPr>
            <p:spPr>
              <a:xfrm>
                <a:off x="4357800" y="3214800"/>
                <a:ext cx="2878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5"/>
              <p:cNvSpPr txBox="1"/>
              <p:nvPr/>
            </p:nvSpPr>
            <p:spPr>
              <a:xfrm>
                <a:off x="4214880" y="3857760"/>
                <a:ext cx="30002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π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π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14"/>
              <p:cNvSpPr txBox="1"/>
              <p:nvPr/>
            </p:nvSpPr>
            <p:spPr>
              <a:xfrm>
                <a:off x="4714920" y="4214880"/>
                <a:ext cx="20718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3"/>
              <p:cNvSpPr txBox="1"/>
              <p:nvPr/>
            </p:nvSpPr>
            <p:spPr>
              <a:xfrm>
                <a:off x="5715000" y="4643280"/>
                <a:ext cx="8571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1857240" y="5857920"/>
                <a:ext cx="2886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17"/>
          <p:cNvSpPr/>
          <p:nvPr/>
        </p:nvSpPr>
        <p:spPr>
          <a:xfrm>
            <a:off x="1935000" y="32864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второй сер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3777480" y="9799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819600" y="143748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0"/>
          <p:cNvSpPr/>
          <p:nvPr/>
        </p:nvSpPr>
        <p:spPr>
          <a:xfrm>
            <a:off x="928800" y="4502520"/>
            <a:ext cx="45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овательно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0  или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1, то 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32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2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2"/>
          <p:cNvSpPr/>
          <p:nvPr/>
        </p:nvSpPr>
        <p:spPr>
          <a:xfrm>
            <a:off x="5273280" y="1143000"/>
            <a:ext cx="365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решая двойное неравенств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2500200"/>
            <a:ext cx="7991640" cy="316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Georgia"/>
              </a:rPr>
              <a:t>Решение  простейших тригонометрических  уравн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CRCTR122"/>
          <p:cNvPicPr/>
          <p:nvPr/>
        </p:nvPicPr>
        <p:blipFill>
          <a:blip r:embed="rId1"/>
          <a:stretch/>
        </p:blipFill>
        <p:spPr>
          <a:xfrm>
            <a:off x="7227720" y="0"/>
            <a:ext cx="1916280" cy="2421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 rot="10800000">
            <a:off x="1187280" y="836280"/>
            <a:ext cx="4897440" cy="1401840"/>
          </a:xfrm>
          <a:prstGeom prst="cloudCallout">
            <a:avLst>
              <a:gd name="adj1" fmla="val -80342"/>
              <a:gd name="adj2" fmla="val 32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sin x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 rot="10800000">
            <a:off x="1357200" y="999720"/>
            <a:ext cx="4897440" cy="1401840"/>
          </a:xfrm>
          <a:prstGeom prst="cloudCallout">
            <a:avLst>
              <a:gd name="adj1" fmla="val -76518"/>
              <a:gd name="adj2" fmla="val 4648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cos x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 rot="10800000">
            <a:off x="713880" y="928080"/>
            <a:ext cx="6589800" cy="1401480"/>
          </a:xfrm>
          <a:prstGeom prst="cloudCallout">
            <a:avLst>
              <a:gd name="adj1" fmla="val -64916"/>
              <a:gd name="adj2" fmla="val 26555"/>
            </a:avLst>
          </a:prstGeom>
          <a:solidFill>
            <a:srgbClr val="fdc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tgx= – 1  ctgx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 rot="10800000">
            <a:off x="1619280" y="691560"/>
            <a:ext cx="4897440" cy="1368360"/>
          </a:xfrm>
          <a:prstGeom prst="cloudCallout">
            <a:avLst>
              <a:gd name="adj1" fmla="val -73342"/>
              <a:gd name="adj2" fmla="val 2111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дач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7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700"/>
                            </p:stCondLst>
                            <p:childTnLst>
                              <p:par>
                                <p:cTn id="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7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7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7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7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шить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1357200" y="2071800"/>
                <a:ext cx="538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Прямоугольник 4"/>
          <p:cNvSpPr/>
          <p:nvPr/>
        </p:nvSpPr>
        <p:spPr>
          <a:xfrm>
            <a:off x="1000080" y="292104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йдите все корни этого урав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длежащие отрез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6"/>
              <p:cNvSpPr txBox="1"/>
              <p:nvPr/>
            </p:nvSpPr>
            <p:spPr>
              <a:xfrm>
                <a:off x="6286680" y="3714840"/>
                <a:ext cx="23126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π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188"/>
          <p:cNvGrpSpPr/>
          <p:nvPr/>
        </p:nvGrpSpPr>
        <p:grpSpPr>
          <a:xfrm>
            <a:off x="5460840" y="2298600"/>
            <a:ext cx="2286000" cy="624240"/>
            <a:chOff x="5460840" y="2298600"/>
            <a:chExt cx="2286000" cy="624240"/>
          </a:xfrm>
        </p:grpSpPr>
        <p:grpSp>
          <p:nvGrpSpPr>
            <p:cNvPr id="386" name="Group 189"/>
            <p:cNvGrpSpPr/>
            <p:nvPr/>
          </p:nvGrpSpPr>
          <p:grpSpPr>
            <a:xfrm>
              <a:off x="5460840" y="2705040"/>
              <a:ext cx="2286000" cy="76320"/>
              <a:chOff x="5460840" y="2705040"/>
              <a:chExt cx="2286000" cy="76320"/>
            </a:xfrm>
          </p:grpSpPr>
          <p:sp>
            <p:nvSpPr>
              <p:cNvPr id="387" name="Line 190"/>
              <p:cNvSpPr/>
              <p:nvPr/>
            </p:nvSpPr>
            <p:spPr>
              <a:xfrm flipH="1">
                <a:off x="5470560" y="2751120"/>
                <a:ext cx="2216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Oval 191"/>
              <p:cNvSpPr/>
              <p:nvPr/>
            </p:nvSpPr>
            <p:spPr>
              <a:xfrm>
                <a:off x="5460840" y="2705040"/>
                <a:ext cx="76320" cy="763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192"/>
              <p:cNvSpPr/>
              <p:nvPr/>
            </p:nvSpPr>
            <p:spPr>
              <a:xfrm>
                <a:off x="7670880" y="2705040"/>
                <a:ext cx="75960" cy="763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93"/>
            <p:cNvGrpSpPr/>
            <p:nvPr/>
          </p:nvGrpSpPr>
          <p:grpSpPr>
            <a:xfrm>
              <a:off x="6319080" y="2298600"/>
              <a:ext cx="324000" cy="624240"/>
              <a:chOff x="6319080" y="2298600"/>
              <a:chExt cx="324000" cy="624240"/>
            </a:xfrm>
          </p:grpSpPr>
          <p:sp>
            <p:nvSpPr>
              <p:cNvPr id="391" name="Rectangle 194"/>
              <p:cNvSpPr/>
              <p:nvPr/>
            </p:nvSpPr>
            <p:spPr>
              <a:xfrm>
                <a:off x="6319080" y="2298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95"/>
              <p:cNvSpPr/>
              <p:nvPr/>
            </p:nvSpPr>
            <p:spPr>
              <a:xfrm>
                <a:off x="6320520" y="2523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96"/>
              <p:cNvSpPr/>
              <p:nvPr/>
            </p:nvSpPr>
            <p:spPr>
              <a:xfrm>
                <a:off x="6419880" y="2593800"/>
                <a:ext cx="129960" cy="1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82" h="1">
                    <a:moveTo>
                      <a:pt x="0" y="0"/>
                    </a:moveTo>
                    <a:lnTo>
                      <a:pt x="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Group 197"/>
          <p:cNvGrpSpPr/>
          <p:nvPr/>
        </p:nvGrpSpPr>
        <p:grpSpPr>
          <a:xfrm>
            <a:off x="7518240" y="2413080"/>
            <a:ext cx="1299960" cy="625680"/>
            <a:chOff x="7518240" y="2413080"/>
            <a:chExt cx="1299960" cy="625680"/>
          </a:xfrm>
        </p:grpSpPr>
        <p:grpSp>
          <p:nvGrpSpPr>
            <p:cNvPr id="395" name="Group 198"/>
            <p:cNvGrpSpPr/>
            <p:nvPr/>
          </p:nvGrpSpPr>
          <p:grpSpPr>
            <a:xfrm>
              <a:off x="7518240" y="2413080"/>
              <a:ext cx="482040" cy="625680"/>
              <a:chOff x="7518240" y="2413080"/>
              <a:chExt cx="482040" cy="625680"/>
            </a:xfrm>
          </p:grpSpPr>
          <p:grpSp>
            <p:nvGrpSpPr>
              <p:cNvPr id="396" name="Group 199"/>
              <p:cNvGrpSpPr/>
              <p:nvPr/>
            </p:nvGrpSpPr>
            <p:grpSpPr>
              <a:xfrm>
                <a:off x="7797240" y="2413080"/>
                <a:ext cx="203040" cy="625680"/>
                <a:chOff x="7797240" y="2413080"/>
                <a:chExt cx="203040" cy="625680"/>
              </a:xfrm>
            </p:grpSpPr>
            <p:sp>
              <p:nvSpPr>
                <p:cNvPr id="397" name="Freeform 200"/>
                <p:cNvSpPr/>
                <p:nvPr/>
              </p:nvSpPr>
              <p:spPr>
                <a:xfrm>
                  <a:off x="7797240" y="2743200"/>
                  <a:ext cx="203040" cy="144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8" h="1">
                      <a:moveTo>
                        <a:pt x="0" y="0"/>
                      </a:moveTo>
                      <a:lnTo>
                        <a:pt x="128" y="0"/>
                      </a:ln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201"/>
                <p:cNvSpPr/>
                <p:nvPr/>
              </p:nvSpPr>
              <p:spPr>
                <a:xfrm>
                  <a:off x="7821720" y="273348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33cc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202"/>
                <p:cNvSpPr/>
                <p:nvPr/>
              </p:nvSpPr>
              <p:spPr>
                <a:xfrm>
                  <a:off x="7801560" y="2413080"/>
                  <a:ext cx="1609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3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Rectangle 203"/>
              <p:cNvSpPr/>
              <p:nvPr/>
            </p:nvSpPr>
            <p:spPr>
              <a:xfrm>
                <a:off x="7518240" y="251460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204"/>
            <p:cNvGrpSpPr/>
            <p:nvPr/>
          </p:nvGrpSpPr>
          <p:grpSpPr>
            <a:xfrm>
              <a:off x="7975800" y="2489040"/>
              <a:ext cx="842400" cy="459720"/>
              <a:chOff x="7975800" y="2489040"/>
              <a:chExt cx="842400" cy="459720"/>
            </a:xfrm>
          </p:grpSpPr>
          <p:sp>
            <p:nvSpPr>
              <p:cNvPr id="402" name="Rectangle 205"/>
              <p:cNvSpPr/>
              <p:nvPr/>
            </p:nvSpPr>
            <p:spPr>
              <a:xfrm>
                <a:off x="8356680" y="2525040"/>
                <a:ext cx="2919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3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i="1" lang="ru-RU" sz="23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206"/>
              <p:cNvSpPr/>
              <p:nvPr/>
            </p:nvSpPr>
            <p:spPr>
              <a:xfrm>
                <a:off x="8485200" y="248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207"/>
              <p:cNvSpPr/>
              <p:nvPr/>
            </p:nvSpPr>
            <p:spPr>
              <a:xfrm>
                <a:off x="7975800" y="253764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33cc"/>
                    </a:solidFill>
                    <a:latin typeface="Arial"/>
                  </a:rPr>
                  <a:t>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5877000" y="4786200"/>
                <a:ext cx="32860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209"/>
          <p:cNvSpPr/>
          <p:nvPr/>
        </p:nvSpPr>
        <p:spPr>
          <a:xfrm>
            <a:off x="5029200" y="309096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210"/>
          <p:cNvGrpSpPr/>
          <p:nvPr/>
        </p:nvGrpSpPr>
        <p:grpSpPr>
          <a:xfrm>
            <a:off x="4801680" y="2603520"/>
            <a:ext cx="621360" cy="825480"/>
            <a:chOff x="4801680" y="2603520"/>
            <a:chExt cx="621360" cy="825480"/>
          </a:xfrm>
        </p:grpSpPr>
        <p:grpSp>
          <p:nvGrpSpPr>
            <p:cNvPr id="408" name="Group 211"/>
            <p:cNvGrpSpPr/>
            <p:nvPr/>
          </p:nvGrpSpPr>
          <p:grpSpPr>
            <a:xfrm>
              <a:off x="4801680" y="2603520"/>
              <a:ext cx="481680" cy="625680"/>
              <a:chOff x="4801680" y="2603520"/>
              <a:chExt cx="481680" cy="625680"/>
            </a:xfrm>
          </p:grpSpPr>
          <p:grpSp>
            <p:nvGrpSpPr>
              <p:cNvPr id="409" name="Group 212"/>
              <p:cNvGrpSpPr/>
              <p:nvPr/>
            </p:nvGrpSpPr>
            <p:grpSpPr>
              <a:xfrm>
                <a:off x="5079960" y="2603520"/>
                <a:ext cx="203400" cy="625680"/>
                <a:chOff x="5079960" y="2603520"/>
                <a:chExt cx="203400" cy="625680"/>
              </a:xfrm>
            </p:grpSpPr>
            <p:sp>
              <p:nvSpPr>
                <p:cNvPr id="410" name="Freeform 213"/>
                <p:cNvSpPr/>
                <p:nvPr/>
              </p:nvSpPr>
              <p:spPr>
                <a:xfrm>
                  <a:off x="5079960" y="2933640"/>
                  <a:ext cx="203400" cy="144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8" h="1">
                      <a:moveTo>
                        <a:pt x="0" y="0"/>
                      </a:moveTo>
                      <a:lnTo>
                        <a:pt x="128" y="0"/>
                      </a:ln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214"/>
                <p:cNvSpPr/>
                <p:nvPr/>
              </p:nvSpPr>
              <p:spPr>
                <a:xfrm>
                  <a:off x="5104800" y="29239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33cc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215"/>
                <p:cNvSpPr/>
                <p:nvPr/>
              </p:nvSpPr>
              <p:spPr>
                <a:xfrm>
                  <a:off x="5084640" y="2603520"/>
                  <a:ext cx="1609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3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Rectangle 216"/>
              <p:cNvSpPr/>
              <p:nvPr/>
            </p:nvSpPr>
            <p:spPr>
              <a:xfrm>
                <a:off x="4801680" y="27050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33cc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Freeform 217"/>
            <p:cNvSpPr/>
            <p:nvPr/>
          </p:nvSpPr>
          <p:spPr>
            <a:xfrm>
              <a:off x="5245200" y="2755800"/>
              <a:ext cx="177840" cy="6732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12" h="424">
                  <a:moveTo>
                    <a:pt x="0" y="424"/>
                  </a:moveTo>
                  <a:cubicBezTo>
                    <a:pt x="2" y="400"/>
                    <a:pt x="5" y="335"/>
                    <a:pt x="13" y="288"/>
                  </a:cubicBezTo>
                  <a:cubicBezTo>
                    <a:pt x="21" y="241"/>
                    <a:pt x="30" y="192"/>
                    <a:pt x="46" y="144"/>
                  </a:cubicBezTo>
                  <a:cubicBezTo>
                    <a:pt x="63" y="96"/>
                    <a:pt x="87" y="48"/>
                    <a:pt x="112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218"/>
          <p:cNvGrpSpPr/>
          <p:nvPr/>
        </p:nvGrpSpPr>
        <p:grpSpPr>
          <a:xfrm>
            <a:off x="5232240" y="2247840"/>
            <a:ext cx="351000" cy="587880"/>
            <a:chOff x="5232240" y="2247840"/>
            <a:chExt cx="351000" cy="587880"/>
          </a:xfrm>
        </p:grpSpPr>
        <p:sp>
          <p:nvSpPr>
            <p:cNvPr id="416" name="Freeform 219"/>
            <p:cNvSpPr/>
            <p:nvPr/>
          </p:nvSpPr>
          <p:spPr>
            <a:xfrm>
              <a:off x="5232240" y="2577960"/>
              <a:ext cx="308160" cy="180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20"/>
            <p:cNvSpPr/>
            <p:nvPr/>
          </p:nvSpPr>
          <p:spPr>
            <a:xfrm>
              <a:off x="5298480" y="2530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21"/>
            <p:cNvSpPr/>
            <p:nvPr/>
          </p:nvSpPr>
          <p:spPr>
            <a:xfrm>
              <a:off x="5349600" y="2247840"/>
              <a:ext cx="23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22"/>
            <p:cNvSpPr/>
            <p:nvPr/>
          </p:nvSpPr>
          <p:spPr>
            <a:xfrm>
              <a:off x="5234760" y="22986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23"/>
          <p:cNvGrpSpPr/>
          <p:nvPr/>
        </p:nvGrpSpPr>
        <p:grpSpPr>
          <a:xfrm>
            <a:off x="5474160" y="2362320"/>
            <a:ext cx="842400" cy="459720"/>
            <a:chOff x="5474160" y="2362320"/>
            <a:chExt cx="842400" cy="459720"/>
          </a:xfrm>
        </p:grpSpPr>
        <p:sp>
          <p:nvSpPr>
            <p:cNvPr id="421" name="Rectangle 224"/>
            <p:cNvSpPr/>
            <p:nvPr/>
          </p:nvSpPr>
          <p:spPr>
            <a:xfrm>
              <a:off x="5855040" y="2398680"/>
              <a:ext cx="291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</a:t>
              </a:r>
              <a:r>
                <a:rPr b="1" i="1" lang="ru-RU" sz="23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25"/>
            <p:cNvSpPr/>
            <p:nvPr/>
          </p:nvSpPr>
          <p:spPr>
            <a:xfrm>
              <a:off x="598356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6"/>
            <p:cNvSpPr/>
            <p:nvPr/>
          </p:nvSpPr>
          <p:spPr>
            <a:xfrm>
              <a:off x="5474160" y="2411280"/>
              <a:ext cx="4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4" name="Object 4"/>
              <p:cNvSpPr txBox="1"/>
              <p:nvPr/>
            </p:nvSpPr>
            <p:spPr>
              <a:xfrm>
                <a:off x="5929200" y="5429160"/>
                <a:ext cx="3006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5" name="Group 228"/>
          <p:cNvGrpSpPr/>
          <p:nvPr/>
        </p:nvGrpSpPr>
        <p:grpSpPr>
          <a:xfrm>
            <a:off x="4863960" y="1371600"/>
            <a:ext cx="4030560" cy="3582720"/>
            <a:chOff x="4863960" y="1371600"/>
            <a:chExt cx="4030560" cy="3582720"/>
          </a:xfrm>
        </p:grpSpPr>
        <p:sp>
          <p:nvSpPr>
            <p:cNvPr id="426" name="Oval 229"/>
            <p:cNvSpPr/>
            <p:nvPr/>
          </p:nvSpPr>
          <p:spPr>
            <a:xfrm>
              <a:off x="5311800" y="2136240"/>
              <a:ext cx="2574720" cy="257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30"/>
            <p:cNvSpPr/>
            <p:nvPr/>
          </p:nvSpPr>
          <p:spPr>
            <a:xfrm>
              <a:off x="4863960" y="3424320"/>
              <a:ext cx="403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31"/>
            <p:cNvSpPr/>
            <p:nvPr/>
          </p:nvSpPr>
          <p:spPr>
            <a:xfrm flipV="1">
              <a:off x="6599160" y="1371600"/>
              <a:ext cx="0" cy="35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4281480" y="252360"/>
                <a:ext cx="3627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Rectangle 13"/>
          <p:cNvSpPr/>
          <p:nvPr/>
        </p:nvSpPr>
        <p:spPr>
          <a:xfrm>
            <a:off x="928800" y="2696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5"/>
          <p:cNvSpPr/>
          <p:nvPr/>
        </p:nvSpPr>
        <p:spPr>
          <a:xfrm>
            <a:off x="785880" y="6886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. Найдите все корни этого уравн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адлежащие отрез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6"/>
              <p:cNvSpPr txBox="1"/>
              <p:nvPr/>
            </p:nvSpPr>
            <p:spPr>
              <a:xfrm>
                <a:off x="7545240" y="647640"/>
                <a:ext cx="123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π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33" name="Group 150"/>
          <p:cNvGrpSpPr/>
          <p:nvPr/>
        </p:nvGrpSpPr>
        <p:grpSpPr>
          <a:xfrm>
            <a:off x="4470480" y="2908080"/>
            <a:ext cx="609120" cy="75960"/>
            <a:chOff x="4470480" y="2908080"/>
            <a:chExt cx="609120" cy="75960"/>
          </a:xfrm>
        </p:grpSpPr>
        <p:sp>
          <p:nvSpPr>
            <p:cNvPr id="434" name="Freeform 151"/>
            <p:cNvSpPr/>
            <p:nvPr/>
          </p:nvSpPr>
          <p:spPr>
            <a:xfrm flipH="1" flipV="1">
              <a:off x="4504320" y="2946600"/>
              <a:ext cx="575280" cy="1440"/>
            </a:xfrm>
            <a:custGeom>
              <a:avLst/>
              <a:gdLst>
                <a:gd name="textAreaLeft" fmla="*/ 360 w 575280"/>
                <a:gd name="textAreaRight" fmla="*/ 576000 w 575280"/>
                <a:gd name="textAreaTop" fmla="*/ 360 h 1440"/>
                <a:gd name="textAreaBottom" fmla="*/ 2160 h 1440"/>
              </a:gdLst>
              <a:ahLst/>
              <a:rect l="textAreaLeft" t="textAreaTop" r="textAreaRight" b="textAreaBottom"/>
              <a:pathLst>
                <a:path w="808" h="2">
                  <a:moveTo>
                    <a:pt x="808" y="2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52"/>
            <p:cNvSpPr/>
            <p:nvPr/>
          </p:nvSpPr>
          <p:spPr>
            <a:xfrm flipH="1" flipV="1">
              <a:off x="4470120" y="2907720"/>
              <a:ext cx="5652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6" name="Object 13"/>
              <p:cNvSpPr txBox="1"/>
              <p:nvPr/>
            </p:nvSpPr>
            <p:spPr>
              <a:xfrm>
                <a:off x="1785960" y="3914640"/>
                <a:ext cx="3120840" cy="22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4"/>
              <p:cNvSpPr txBox="1"/>
              <p:nvPr/>
            </p:nvSpPr>
            <p:spPr>
              <a:xfrm>
                <a:off x="1214280" y="5989680"/>
                <a:ext cx="4429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к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к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к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Rectangle 248"/>
          <p:cNvSpPr/>
          <p:nvPr/>
        </p:nvSpPr>
        <p:spPr>
          <a:xfrm>
            <a:off x="5358240" y="50007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6"/>
              <p:cNvSpPr txBox="1"/>
              <p:nvPr/>
            </p:nvSpPr>
            <p:spPr>
              <a:xfrm>
                <a:off x="4572000" y="3429000"/>
                <a:ext cx="2000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7"/>
              <p:cNvSpPr txBox="1"/>
              <p:nvPr/>
            </p:nvSpPr>
            <p:spPr>
              <a:xfrm>
                <a:off x="1071720" y="1274760"/>
                <a:ext cx="228600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333 0 L -0.075 0 E">
                                      <p:cBhvr>
                                        <p:cTn id="1092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333 0 L -0.075 0 E">
                                      <p:cBhvr>
                                        <p:cTn id="1094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3"/>
          <p:cNvGrpSpPr/>
          <p:nvPr/>
        </p:nvGrpSpPr>
        <p:grpSpPr>
          <a:xfrm>
            <a:off x="3505320" y="4822920"/>
            <a:ext cx="350280" cy="587520"/>
            <a:chOff x="3505320" y="4822920"/>
            <a:chExt cx="350280" cy="587520"/>
          </a:xfrm>
        </p:grpSpPr>
        <p:sp>
          <p:nvSpPr>
            <p:cNvPr id="442" name="Freeform 24"/>
            <p:cNvSpPr/>
            <p:nvPr/>
          </p:nvSpPr>
          <p:spPr>
            <a:xfrm>
              <a:off x="3505320" y="5152680"/>
              <a:ext cx="307800" cy="1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5"/>
            <p:cNvSpPr/>
            <p:nvPr/>
          </p:nvSpPr>
          <p:spPr>
            <a:xfrm>
              <a:off x="3570840" y="5105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6"/>
            <p:cNvSpPr/>
            <p:nvPr/>
          </p:nvSpPr>
          <p:spPr>
            <a:xfrm>
              <a:off x="3622320" y="4822920"/>
              <a:ext cx="233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3507480" y="4873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28"/>
          <p:cNvSpPr/>
          <p:nvPr/>
        </p:nvSpPr>
        <p:spPr>
          <a:xfrm>
            <a:off x="5181480" y="3560760"/>
            <a:ext cx="68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i="1" lang="ru-RU" sz="23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2133720" y="1546200"/>
            <a:ext cx="4030200" cy="3582720"/>
            <a:chOff x="2133720" y="1546200"/>
            <a:chExt cx="4030200" cy="3582720"/>
          </a:xfrm>
        </p:grpSpPr>
        <p:sp>
          <p:nvSpPr>
            <p:cNvPr id="448" name="Oval 30"/>
            <p:cNvSpPr/>
            <p:nvPr/>
          </p:nvSpPr>
          <p:spPr>
            <a:xfrm>
              <a:off x="2581560" y="2310840"/>
              <a:ext cx="2574720" cy="257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1"/>
            <p:cNvSpPr/>
            <p:nvPr/>
          </p:nvSpPr>
          <p:spPr>
            <a:xfrm>
              <a:off x="2133720" y="3598920"/>
              <a:ext cx="40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32"/>
            <p:cNvSpPr/>
            <p:nvPr/>
          </p:nvSpPr>
          <p:spPr>
            <a:xfrm flipV="1">
              <a:off x="3868920" y="1546200"/>
              <a:ext cx="0" cy="35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33"/>
          <p:cNvSpPr/>
          <p:nvPr/>
        </p:nvSpPr>
        <p:spPr>
          <a:xfrm>
            <a:off x="2362320" y="353232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4"/>
          <p:cNvSpPr/>
          <p:nvPr/>
        </p:nvSpPr>
        <p:spPr>
          <a:xfrm>
            <a:off x="152280" y="517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. Найдите все корни этого уравнения, принадлежащие отрез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3911760" y="1698480"/>
            <a:ext cx="203040" cy="625680"/>
            <a:chOff x="3911760" y="1698480"/>
            <a:chExt cx="203040" cy="625680"/>
          </a:xfrm>
        </p:grpSpPr>
        <p:sp>
          <p:nvSpPr>
            <p:cNvPr id="454" name="Freeform 36"/>
            <p:cNvSpPr/>
            <p:nvPr/>
          </p:nvSpPr>
          <p:spPr>
            <a:xfrm>
              <a:off x="3911760" y="2028600"/>
              <a:ext cx="203040" cy="14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"/>
            <p:cNvSpPr/>
            <p:nvPr/>
          </p:nvSpPr>
          <p:spPr>
            <a:xfrm>
              <a:off x="3936240" y="2018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3916080" y="1698480"/>
              <a:ext cx="160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39"/>
          <p:cNvGrpSpPr/>
          <p:nvPr/>
        </p:nvGrpSpPr>
        <p:grpSpPr>
          <a:xfrm>
            <a:off x="3878280" y="1752480"/>
            <a:ext cx="351000" cy="587880"/>
            <a:chOff x="3878280" y="1752480"/>
            <a:chExt cx="351000" cy="587880"/>
          </a:xfrm>
        </p:grpSpPr>
        <p:sp>
          <p:nvSpPr>
            <p:cNvPr id="458" name="Freeform 40"/>
            <p:cNvSpPr/>
            <p:nvPr/>
          </p:nvSpPr>
          <p:spPr>
            <a:xfrm>
              <a:off x="3878280" y="2082600"/>
              <a:ext cx="308160" cy="180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1"/>
            <p:cNvSpPr/>
            <p:nvPr/>
          </p:nvSpPr>
          <p:spPr>
            <a:xfrm>
              <a:off x="3944520" y="2035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2"/>
            <p:cNvSpPr/>
            <p:nvPr/>
          </p:nvSpPr>
          <p:spPr>
            <a:xfrm>
              <a:off x="3995640" y="1752480"/>
              <a:ext cx="23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3"/>
            <p:cNvSpPr/>
            <p:nvPr/>
          </p:nvSpPr>
          <p:spPr>
            <a:xfrm>
              <a:off x="3880800" y="180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Arc 44"/>
          <p:cNvSpPr/>
          <p:nvPr/>
        </p:nvSpPr>
        <p:spPr>
          <a:xfrm flipH="1">
            <a:off x="2590920" y="2308320"/>
            <a:ext cx="2574720" cy="2577960"/>
          </a:xfrm>
          <a:custGeom>
            <a:avLst/>
            <a:gdLst>
              <a:gd name="textAreaLeft" fmla="*/ 360 w 2574720"/>
              <a:gd name="textAreaRight" fmla="*/ 2575440 w 2574720"/>
              <a:gd name="textAreaTop" fmla="*/ 0 h 2577960"/>
              <a:gd name="textAreaBottom" fmla="*/ 2578320 h 2577960"/>
            </a:gdLst>
            <a:ahLst/>
            <a:rect l="textAreaLeft" t="textAreaTop" r="textAreaRight" b="textAreaBottom"/>
            <a:pathLst>
              <a:path fill="none" w="43200" h="43200">
                <a:moveTo>
                  <a:pt x="43199" y="21679"/>
                </a:moveTo>
                <a:cubicBezTo>
                  <a:pt x="43155" y="33578"/>
                  <a:pt x="3349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626" y="-1"/>
                  <a:pt x="21653" y="0"/>
                  <a:pt x="21679" y="0"/>
                </a:cubicBezTo>
              </a:path>
              <a:path stroke="0" w="43200" h="43200">
                <a:moveTo>
                  <a:pt x="43199" y="21679"/>
                </a:moveTo>
                <a:cubicBezTo>
                  <a:pt x="43155" y="33578"/>
                  <a:pt x="3349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626" y="-1"/>
                  <a:pt x="21653" y="0"/>
                  <a:pt x="21679" y="0"/>
                </a:cubicBezTo>
                <a:lnTo>
                  <a:pt x="21600" y="21600"/>
                </a:lnTo>
                <a:close/>
              </a:path>
            </a:pathLst>
          </a:custGeom>
          <a:blipFill rotWithShape="0">
            <a:blip r:embed="rId1">
              <a:alphaModFix amt="41000"/>
            </a:blip>
            <a:srcRect/>
            <a:tile tx="0" ty="0" sx="100000" sy="100000" algn="ctr"/>
          </a:blipFill>
          <a:ln w="19080">
            <a:solidFill>
              <a:srgbClr val="ff0066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45"/>
          <p:cNvGrpSpPr/>
          <p:nvPr/>
        </p:nvGrpSpPr>
        <p:grpSpPr>
          <a:xfrm>
            <a:off x="5857920" y="1523880"/>
            <a:ext cx="3071520" cy="833040"/>
            <a:chOff x="5857920" y="1523880"/>
            <a:chExt cx="3071520" cy="833040"/>
          </a:xfrm>
        </p:grpSpPr>
        <p:sp>
          <p:nvSpPr>
            <p:cNvPr id="464" name="AutoShape 46"/>
            <p:cNvSpPr/>
            <p:nvPr/>
          </p:nvSpPr>
          <p:spPr>
            <a:xfrm>
              <a:off x="5857920" y="1523880"/>
              <a:ext cx="3071520" cy="776520"/>
            </a:xfrm>
            <a:prstGeom prst="wedgeRectCallout">
              <a:avLst>
                <a:gd name="adj1" fmla="val 20259"/>
                <a:gd name="adj2" fmla="val -110763"/>
              </a:avLst>
            </a:prstGeom>
            <a:gradFill rotWithShape="0">
              <a:gsLst>
                <a:gs pos="0">
                  <a:srgbClr val="69d8ff">
                    <a:alpha val="94117"/>
                  </a:srgbClr>
                </a:gs>
                <a:gs pos="50000">
                  <a:srgbClr val="e7ffff">
                    <a:alpha val="94117"/>
                  </a:srgbClr>
                </a:gs>
                <a:gs pos="100000">
                  <a:srgbClr val="69d8ff">
                    <a:alpha val="94117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йдем этот промежуток на единичной окру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49"/>
            <p:cNvSpPr/>
            <p:nvPr/>
          </p:nvSpPr>
          <p:spPr>
            <a:xfrm>
              <a:off x="8545680" y="1911960"/>
              <a:ext cx="18504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50"/>
          <p:cNvGrpSpPr/>
          <p:nvPr/>
        </p:nvGrpSpPr>
        <p:grpSpPr>
          <a:xfrm>
            <a:off x="2494080" y="3540240"/>
            <a:ext cx="2717640" cy="126720"/>
            <a:chOff x="2494080" y="3540240"/>
            <a:chExt cx="2717640" cy="126720"/>
          </a:xfrm>
        </p:grpSpPr>
        <p:grpSp>
          <p:nvGrpSpPr>
            <p:cNvPr id="467" name="Group 51"/>
            <p:cNvGrpSpPr/>
            <p:nvPr/>
          </p:nvGrpSpPr>
          <p:grpSpPr>
            <a:xfrm>
              <a:off x="3853080" y="3540240"/>
              <a:ext cx="1358640" cy="126720"/>
              <a:chOff x="3853080" y="3540240"/>
              <a:chExt cx="1358640" cy="126720"/>
            </a:xfrm>
          </p:grpSpPr>
          <p:sp>
            <p:nvSpPr>
              <p:cNvPr id="468" name="Freeform 52"/>
              <p:cNvSpPr/>
              <p:nvPr/>
            </p:nvSpPr>
            <p:spPr>
              <a:xfrm>
                <a:off x="3853080" y="3600360"/>
                <a:ext cx="1282680" cy="2520"/>
              </a:xfrm>
              <a:custGeom>
                <a:avLst/>
                <a:gdLst>
                  <a:gd name="textAreaLeft" fmla="*/ 0 w 1282680"/>
                  <a:gd name="textAreaRight" fmla="*/ 1283040 w 1282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808" h="2">
                    <a:moveTo>
                      <a:pt x="808" y="2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53"/>
              <p:cNvSpPr/>
              <p:nvPr/>
            </p:nvSpPr>
            <p:spPr>
              <a:xfrm>
                <a:off x="5085000" y="3540240"/>
                <a:ext cx="126720" cy="1267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4"/>
            <p:cNvGrpSpPr/>
            <p:nvPr/>
          </p:nvGrpSpPr>
          <p:grpSpPr>
            <a:xfrm>
              <a:off x="2494080" y="3540240"/>
              <a:ext cx="1358640" cy="126720"/>
              <a:chOff x="2494080" y="3540240"/>
              <a:chExt cx="1358640" cy="126720"/>
            </a:xfrm>
          </p:grpSpPr>
          <p:sp>
            <p:nvSpPr>
              <p:cNvPr id="471" name="Freeform 55"/>
              <p:cNvSpPr/>
              <p:nvPr/>
            </p:nvSpPr>
            <p:spPr>
              <a:xfrm flipH="1" flipV="1">
                <a:off x="2569680" y="3603960"/>
                <a:ext cx="1282680" cy="2520"/>
              </a:xfrm>
              <a:custGeom>
                <a:avLst/>
                <a:gdLst>
                  <a:gd name="textAreaLeft" fmla="*/ -360 w 1282680"/>
                  <a:gd name="textAreaRight" fmla="*/ 1282680 w 1282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808" h="2">
                    <a:moveTo>
                      <a:pt x="808" y="2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56"/>
              <p:cNvSpPr/>
              <p:nvPr/>
            </p:nvSpPr>
            <p:spPr>
              <a:xfrm flipH="1" flipV="1">
                <a:off x="2494080" y="3540240"/>
                <a:ext cx="126720" cy="126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73" name="Object 2"/>
              <p:cNvSpPr txBox="1"/>
              <p:nvPr/>
            </p:nvSpPr>
            <p:spPr>
              <a:xfrm>
                <a:off x="5105520" y="4533840"/>
                <a:ext cx="13190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4" name="Group 118"/>
          <p:cNvGrpSpPr/>
          <p:nvPr/>
        </p:nvGrpSpPr>
        <p:grpSpPr>
          <a:xfrm>
            <a:off x="5326200" y="4495680"/>
            <a:ext cx="354960" cy="398880"/>
            <a:chOff x="5326200" y="4495680"/>
            <a:chExt cx="354960" cy="398880"/>
          </a:xfrm>
        </p:grpSpPr>
        <p:sp>
          <p:nvSpPr>
            <p:cNvPr id="475" name="Freeform 119"/>
            <p:cNvSpPr/>
            <p:nvPr/>
          </p:nvSpPr>
          <p:spPr>
            <a:xfrm>
              <a:off x="5326200" y="4686120"/>
              <a:ext cx="304560" cy="1522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0"/>
                  </a:moveTo>
                  <a:lnTo>
                    <a:pt x="144" y="96"/>
                  </a:lnTo>
                  <a:lnTo>
                    <a:pt x="192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20"/>
            <p:cNvSpPr/>
            <p:nvPr/>
          </p:nvSpPr>
          <p:spPr>
            <a:xfrm>
              <a:off x="5358600" y="4495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6434280" y="4572000"/>
                <a:ext cx="21636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4"/>
              <p:cNvSpPr txBox="1"/>
              <p:nvPr/>
            </p:nvSpPr>
            <p:spPr>
              <a:xfrm>
                <a:off x="7715160" y="357120"/>
                <a:ext cx="1150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π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9" name="Group 123"/>
          <p:cNvGrpSpPr/>
          <p:nvPr/>
        </p:nvGrpSpPr>
        <p:grpSpPr>
          <a:xfrm>
            <a:off x="2735280" y="2489040"/>
            <a:ext cx="2286000" cy="624240"/>
            <a:chOff x="2735280" y="2489040"/>
            <a:chExt cx="2286000" cy="624240"/>
          </a:xfrm>
        </p:grpSpPr>
        <p:grpSp>
          <p:nvGrpSpPr>
            <p:cNvPr id="480" name="Group 124"/>
            <p:cNvGrpSpPr/>
            <p:nvPr/>
          </p:nvGrpSpPr>
          <p:grpSpPr>
            <a:xfrm>
              <a:off x="2735280" y="2895480"/>
              <a:ext cx="2286000" cy="76320"/>
              <a:chOff x="2735280" y="2895480"/>
              <a:chExt cx="2286000" cy="76320"/>
            </a:xfrm>
          </p:grpSpPr>
          <p:sp>
            <p:nvSpPr>
              <p:cNvPr id="481" name="Line 125"/>
              <p:cNvSpPr/>
              <p:nvPr/>
            </p:nvSpPr>
            <p:spPr>
              <a:xfrm flipH="1">
                <a:off x="2745000" y="2941560"/>
                <a:ext cx="2216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126"/>
              <p:cNvSpPr/>
              <p:nvPr/>
            </p:nvSpPr>
            <p:spPr>
              <a:xfrm>
                <a:off x="2735280" y="2895480"/>
                <a:ext cx="76320" cy="763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127"/>
              <p:cNvSpPr/>
              <p:nvPr/>
            </p:nvSpPr>
            <p:spPr>
              <a:xfrm>
                <a:off x="4945320" y="2895480"/>
                <a:ext cx="75960" cy="763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128"/>
            <p:cNvGrpSpPr/>
            <p:nvPr/>
          </p:nvGrpSpPr>
          <p:grpSpPr>
            <a:xfrm>
              <a:off x="3593520" y="2489040"/>
              <a:ext cx="324000" cy="624240"/>
              <a:chOff x="3593520" y="2489040"/>
              <a:chExt cx="324000" cy="624240"/>
            </a:xfrm>
          </p:grpSpPr>
          <p:sp>
            <p:nvSpPr>
              <p:cNvPr id="485" name="Rectangle 129"/>
              <p:cNvSpPr/>
              <p:nvPr/>
            </p:nvSpPr>
            <p:spPr>
              <a:xfrm>
                <a:off x="3593520" y="2489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30"/>
              <p:cNvSpPr/>
              <p:nvPr/>
            </p:nvSpPr>
            <p:spPr>
              <a:xfrm>
                <a:off x="3594960" y="2714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1"/>
              <p:cNvSpPr/>
              <p:nvPr/>
            </p:nvSpPr>
            <p:spPr>
              <a:xfrm>
                <a:off x="3694320" y="2784240"/>
                <a:ext cx="129960" cy="1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82" h="1">
                    <a:moveTo>
                      <a:pt x="0" y="0"/>
                    </a:moveTo>
                    <a:lnTo>
                      <a:pt x="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8" name="Group 132"/>
          <p:cNvGrpSpPr/>
          <p:nvPr/>
        </p:nvGrpSpPr>
        <p:grpSpPr>
          <a:xfrm>
            <a:off x="4906080" y="2463840"/>
            <a:ext cx="420120" cy="632880"/>
            <a:chOff x="4906080" y="2463840"/>
            <a:chExt cx="420120" cy="632880"/>
          </a:xfrm>
        </p:grpSpPr>
        <p:sp>
          <p:nvSpPr>
            <p:cNvPr id="489" name="Freeform 133"/>
            <p:cNvSpPr/>
            <p:nvPr/>
          </p:nvSpPr>
          <p:spPr>
            <a:xfrm>
              <a:off x="5018040" y="2793960"/>
              <a:ext cx="308160" cy="1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34"/>
            <p:cNvSpPr/>
            <p:nvPr/>
          </p:nvSpPr>
          <p:spPr>
            <a:xfrm>
              <a:off x="5083920" y="274608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33cc"/>
                  </a:solidFill>
                  <a:latin typeface="Arial"/>
                </a:rPr>
                <a:t>6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35"/>
            <p:cNvSpPr/>
            <p:nvPr/>
          </p:nvSpPr>
          <p:spPr>
            <a:xfrm>
              <a:off x="5160600" y="2463840"/>
              <a:ext cx="160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6"/>
            <p:cNvSpPr/>
            <p:nvPr/>
          </p:nvSpPr>
          <p:spPr>
            <a:xfrm>
              <a:off x="4906080" y="2501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37"/>
          <p:cNvGrpSpPr/>
          <p:nvPr/>
        </p:nvGrpSpPr>
        <p:grpSpPr>
          <a:xfrm>
            <a:off x="5338440" y="2781000"/>
            <a:ext cx="635040" cy="762120"/>
            <a:chOff x="5338440" y="2781000"/>
            <a:chExt cx="635040" cy="762120"/>
          </a:xfrm>
        </p:grpSpPr>
        <p:grpSp>
          <p:nvGrpSpPr>
            <p:cNvPr id="494" name="Group 138"/>
            <p:cNvGrpSpPr/>
            <p:nvPr/>
          </p:nvGrpSpPr>
          <p:grpSpPr>
            <a:xfrm>
              <a:off x="5492160" y="2857680"/>
              <a:ext cx="481320" cy="625680"/>
              <a:chOff x="5492160" y="2857680"/>
              <a:chExt cx="481320" cy="625680"/>
            </a:xfrm>
          </p:grpSpPr>
          <p:grpSp>
            <p:nvGrpSpPr>
              <p:cNvPr id="495" name="Group 139"/>
              <p:cNvGrpSpPr/>
              <p:nvPr/>
            </p:nvGrpSpPr>
            <p:grpSpPr>
              <a:xfrm>
                <a:off x="5770440" y="2857680"/>
                <a:ext cx="203040" cy="625680"/>
                <a:chOff x="5770440" y="2857680"/>
                <a:chExt cx="203040" cy="625680"/>
              </a:xfrm>
            </p:grpSpPr>
            <p:sp>
              <p:nvSpPr>
                <p:cNvPr id="496" name="Freeform 140"/>
                <p:cNvSpPr/>
                <p:nvPr/>
              </p:nvSpPr>
              <p:spPr>
                <a:xfrm>
                  <a:off x="5770440" y="3187800"/>
                  <a:ext cx="203040" cy="144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8" h="1">
                      <a:moveTo>
                        <a:pt x="0" y="0"/>
                      </a:moveTo>
                      <a:lnTo>
                        <a:pt x="128" y="0"/>
                      </a:ln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141"/>
                <p:cNvSpPr/>
                <p:nvPr/>
              </p:nvSpPr>
              <p:spPr>
                <a:xfrm>
                  <a:off x="5794920" y="317808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33cc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142"/>
                <p:cNvSpPr/>
                <p:nvPr/>
              </p:nvSpPr>
              <p:spPr>
                <a:xfrm>
                  <a:off x="5774760" y="2857680"/>
                  <a:ext cx="1609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3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Rectangle 143"/>
              <p:cNvSpPr/>
              <p:nvPr/>
            </p:nvSpPr>
            <p:spPr>
              <a:xfrm>
                <a:off x="5492160" y="2959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33cc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Freeform 144"/>
            <p:cNvSpPr/>
            <p:nvPr/>
          </p:nvSpPr>
          <p:spPr>
            <a:xfrm flipH="1" flipV="1">
              <a:off x="5338080" y="2780640"/>
              <a:ext cx="241560" cy="762120"/>
            </a:xfrm>
            <a:custGeom>
              <a:avLst/>
              <a:gdLst>
                <a:gd name="textAreaLeft" fmla="*/ -360 w 241560"/>
                <a:gd name="textAreaRight" fmla="*/ 241560 w 241560"/>
                <a:gd name="textAreaTop" fmla="*/ -360 h 762120"/>
                <a:gd name="textAreaBottom" fmla="*/ 762120 h 762120"/>
              </a:gdLst>
              <a:ahLst/>
              <a:rect l="textAreaLeft" t="textAreaTop" r="textAreaRight" b="textAreaBottom"/>
              <a:pathLst>
                <a:path w="152" h="480">
                  <a:moveTo>
                    <a:pt x="8" y="0"/>
                  </a:moveTo>
                  <a:cubicBezTo>
                    <a:pt x="4" y="68"/>
                    <a:pt x="0" y="136"/>
                    <a:pt x="8" y="192"/>
                  </a:cubicBezTo>
                  <a:cubicBezTo>
                    <a:pt x="16" y="248"/>
                    <a:pt x="32" y="288"/>
                    <a:pt x="56" y="336"/>
                  </a:cubicBezTo>
                  <a:cubicBezTo>
                    <a:pt x="80" y="384"/>
                    <a:pt x="116" y="432"/>
                    <a:pt x="152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45"/>
          <p:cNvGrpSpPr/>
          <p:nvPr/>
        </p:nvGrpSpPr>
        <p:grpSpPr>
          <a:xfrm>
            <a:off x="2684520" y="2833560"/>
            <a:ext cx="172800" cy="176040"/>
            <a:chOff x="2684520" y="2833560"/>
            <a:chExt cx="172800" cy="176040"/>
          </a:xfrm>
        </p:grpSpPr>
        <p:sp>
          <p:nvSpPr>
            <p:cNvPr id="502" name="Freeform 146"/>
            <p:cNvSpPr/>
            <p:nvPr/>
          </p:nvSpPr>
          <p:spPr>
            <a:xfrm>
              <a:off x="2692440" y="2833560"/>
              <a:ext cx="156960" cy="1760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78" h="88">
                  <a:moveTo>
                    <a:pt x="0" y="0"/>
                  </a:moveTo>
                  <a:lnTo>
                    <a:pt x="78" y="8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7"/>
            <p:cNvSpPr/>
            <p:nvPr/>
          </p:nvSpPr>
          <p:spPr>
            <a:xfrm>
              <a:off x="2684520" y="2837520"/>
              <a:ext cx="172800" cy="172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86" h="86">
                  <a:moveTo>
                    <a:pt x="86" y="0"/>
                  </a:moveTo>
                  <a:lnTo>
                    <a:pt x="0" y="8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4" name="Object 5"/>
              <p:cNvSpPr txBox="1"/>
              <p:nvPr/>
            </p:nvSpPr>
            <p:spPr>
              <a:xfrm>
                <a:off x="457200" y="1447920"/>
                <a:ext cx="12938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6"/>
              <p:cNvSpPr txBox="1"/>
              <p:nvPr/>
            </p:nvSpPr>
            <p:spPr>
              <a:xfrm>
                <a:off x="4856040" y="5638680"/>
                <a:ext cx="2500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AutoShape 46"/>
          <p:cNvSpPr/>
          <p:nvPr/>
        </p:nvSpPr>
        <p:spPr>
          <a:xfrm>
            <a:off x="142920" y="2500200"/>
            <a:ext cx="2428920" cy="428760"/>
          </a:xfrm>
          <a:prstGeom prst="wedgeRectCallout">
            <a:avLst>
              <a:gd name="adj1" fmla="val 12981"/>
              <a:gd name="adj2" fmla="val -88675"/>
            </a:avLst>
          </a:prstGeom>
          <a:gradFill rotWithShape="0">
            <a:gsLst>
              <a:gs pos="0">
                <a:srgbClr val="69d8ff">
                  <a:alpha val="94117"/>
                </a:srgbClr>
              </a:gs>
              <a:gs pos="50000">
                <a:srgbClr val="e7ffff">
                  <a:alpha val="94117"/>
                </a:srgbClr>
              </a:gs>
              <a:gs pos="100000">
                <a:srgbClr val="69d8ff">
                  <a:alpha val="94117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м ко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45"/>
          <p:cNvGrpSpPr/>
          <p:nvPr/>
        </p:nvGrpSpPr>
        <p:grpSpPr>
          <a:xfrm>
            <a:off x="5097600" y="2928960"/>
            <a:ext cx="3831840" cy="3785760"/>
            <a:chOff x="5097600" y="2928960"/>
            <a:chExt cx="3831840" cy="3785760"/>
          </a:xfrm>
        </p:grpSpPr>
        <p:sp>
          <p:nvSpPr>
            <p:cNvPr id="508" name="AutoShape 46"/>
            <p:cNvSpPr/>
            <p:nvPr/>
          </p:nvSpPr>
          <p:spPr>
            <a:xfrm>
              <a:off x="6072120" y="2928960"/>
              <a:ext cx="2857320" cy="642600"/>
            </a:xfrm>
            <a:prstGeom prst="wedgeRectCallout">
              <a:avLst>
                <a:gd name="adj1" fmla="val -72666"/>
                <a:gd name="adj2" fmla="val -81624"/>
              </a:avLst>
            </a:prstGeom>
            <a:gradFill rotWithShape="0">
              <a:gsLst>
                <a:gs pos="0">
                  <a:srgbClr val="69d8ff">
                    <a:alpha val="94117"/>
                  </a:srgbClr>
                </a:gs>
                <a:gs pos="50000">
                  <a:srgbClr val="e7ffff">
                    <a:alpha val="94117"/>
                  </a:srgbClr>
                </a:gs>
                <a:gs pos="100000">
                  <a:srgbClr val="69d8ff">
                    <a:alpha val="94117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Выберем числа, входящие в промежут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49"/>
            <p:cNvSpPr/>
            <p:nvPr/>
          </p:nvSpPr>
          <p:spPr>
            <a:xfrm>
              <a:off x="5097600" y="6534000"/>
              <a:ext cx="1879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11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11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1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15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16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ешить урав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1"/>
              <p:cNvSpPr txBox="1"/>
              <p:nvPr/>
            </p:nvSpPr>
            <p:spPr>
              <a:xfrm>
                <a:off x="2500200" y="2500200"/>
                <a:ext cx="3184560" cy="17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1"/>
              <p:cNvSpPr txBox="1"/>
              <p:nvPr/>
            </p:nvSpPr>
            <p:spPr>
              <a:xfrm>
                <a:off x="2928960" y="357120"/>
                <a:ext cx="121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Rectangle 3"/>
          <p:cNvSpPr/>
          <p:nvPr/>
        </p:nvSpPr>
        <p:spPr>
          <a:xfrm>
            <a:off x="508320" y="3574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ить уравнени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4"/>
              <p:cNvSpPr txBox="1"/>
              <p:nvPr/>
            </p:nvSpPr>
            <p:spPr>
              <a:xfrm>
                <a:off x="1357200" y="1500120"/>
                <a:ext cx="1309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Rectangle 6"/>
          <p:cNvSpPr/>
          <p:nvPr/>
        </p:nvSpPr>
        <p:spPr>
          <a:xfrm>
            <a:off x="1145160" y="10720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14720" y="4357800"/>
                <a:ext cx="1643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k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7"/>
              <p:cNvSpPr txBox="1"/>
              <p:nvPr/>
            </p:nvSpPr>
            <p:spPr>
              <a:xfrm>
                <a:off x="1428840" y="4857840"/>
                <a:ext cx="13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Rectangle 9"/>
          <p:cNvSpPr/>
          <p:nvPr/>
        </p:nvSpPr>
        <p:spPr>
          <a:xfrm>
            <a:off x="284040" y="3791160"/>
            <a:ext cx="561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огда случается, что часть серии входит в отв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 часть нет. Нанесем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числовую окруж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3935520" y="4075560"/>
            <a:ext cx="433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исключим корни, удовлетворя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12"/>
              <p:cNvSpPr txBox="1"/>
              <p:nvPr/>
            </p:nvSpPr>
            <p:spPr>
              <a:xfrm>
                <a:off x="1285920" y="2286000"/>
                <a:ext cx="20718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πk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3" name="Rectangle 14"/>
          <p:cNvSpPr/>
          <p:nvPr/>
        </p:nvSpPr>
        <p:spPr>
          <a:xfrm>
            <a:off x="475200" y="5361480"/>
            <a:ext cx="778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тавшиеся решения из серии корней можно объединить в форму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3"/>
              <p:cNvSpPr txBox="1"/>
              <p:nvPr/>
            </p:nvSpPr>
            <p:spPr>
              <a:xfrm>
                <a:off x="357120" y="5715000"/>
                <a:ext cx="1928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6"/>
              <p:cNvSpPr txBox="1"/>
              <p:nvPr/>
            </p:nvSpPr>
            <p:spPr>
              <a:xfrm>
                <a:off x="285840" y="6138720"/>
                <a:ext cx="3132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Oval 3"/>
          <p:cNvSpPr/>
          <p:nvPr/>
        </p:nvSpPr>
        <p:spPr>
          <a:xfrm>
            <a:off x="4998960" y="549360"/>
            <a:ext cx="2971800" cy="2971800"/>
          </a:xfrm>
          <a:prstGeom prst="ellipse">
            <a:avLst/>
          </a:prstGeom>
          <a:noFill/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4438800" y="203508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6343560" y="20653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8763120" y="2049480"/>
            <a:ext cx="38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6143760" y="0"/>
            <a:ext cx="3808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5"/>
          <p:cNvSpPr/>
          <p:nvPr/>
        </p:nvSpPr>
        <p:spPr>
          <a:xfrm>
            <a:off x="7920000" y="197964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1"/>
          <p:cNvSpPr/>
          <p:nvPr/>
        </p:nvSpPr>
        <p:spPr>
          <a:xfrm>
            <a:off x="7995240" y="1620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7"/>
              <p:cNvSpPr txBox="1"/>
              <p:nvPr/>
            </p:nvSpPr>
            <p:spPr>
              <a:xfrm>
                <a:off x="4570560" y="1692360"/>
                <a:ext cx="3571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9"/>
              <p:cNvSpPr txBox="1"/>
              <p:nvPr/>
            </p:nvSpPr>
            <p:spPr>
              <a:xfrm>
                <a:off x="7858080" y="785880"/>
                <a:ext cx="270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35" name="Прямая со стрелкой 37"/>
          <p:cNvCxnSpPr/>
          <p:nvPr/>
        </p:nvCxnSpPr>
        <p:spPr>
          <a:xfrm flipV="1">
            <a:off x="6500880" y="213480"/>
            <a:ext cx="2160" cy="364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6" name="AutoShape 15"/>
          <p:cNvSpPr/>
          <p:nvPr/>
        </p:nvSpPr>
        <p:spPr>
          <a:xfrm>
            <a:off x="7715160" y="1214280"/>
            <a:ext cx="111240" cy="11124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6443640" y="500040"/>
            <a:ext cx="111240" cy="11124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5"/>
          <p:cNvSpPr/>
          <p:nvPr/>
        </p:nvSpPr>
        <p:spPr>
          <a:xfrm>
            <a:off x="5143680" y="1214280"/>
            <a:ext cx="110880" cy="11124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143680" y="2714760"/>
            <a:ext cx="110880" cy="11088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715160" y="2714760"/>
            <a:ext cx="111240" cy="11088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5"/>
          <p:cNvSpPr/>
          <p:nvPr/>
        </p:nvSpPr>
        <p:spPr>
          <a:xfrm>
            <a:off x="6443640" y="3456000"/>
            <a:ext cx="111240" cy="111240"/>
          </a:xfrm>
          <a:prstGeom prst="flowChartConnector">
            <a:avLst/>
          </a:prstGeom>
          <a:solidFill>
            <a:srgbClr val="cc00cc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1"/>
              <p:cNvSpPr txBox="1"/>
              <p:nvPr/>
            </p:nvSpPr>
            <p:spPr>
              <a:xfrm>
                <a:off x="6572160" y="0"/>
                <a:ext cx="209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2"/>
              <p:cNvSpPr txBox="1"/>
              <p:nvPr/>
            </p:nvSpPr>
            <p:spPr>
              <a:xfrm>
                <a:off x="4795920" y="571680"/>
                <a:ext cx="39528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3"/>
              <p:cNvSpPr txBox="1"/>
              <p:nvPr/>
            </p:nvSpPr>
            <p:spPr>
              <a:xfrm>
                <a:off x="4713120" y="2571840"/>
                <a:ext cx="416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4"/>
              <p:cNvSpPr txBox="1"/>
              <p:nvPr/>
            </p:nvSpPr>
            <p:spPr>
              <a:xfrm>
                <a:off x="6153120" y="3571920"/>
                <a:ext cx="393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5"/>
              <p:cNvSpPr txBox="1"/>
              <p:nvPr/>
            </p:nvSpPr>
            <p:spPr>
              <a:xfrm>
                <a:off x="7754760" y="2786040"/>
                <a:ext cx="476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AutoShape 15"/>
          <p:cNvSpPr/>
          <p:nvPr/>
        </p:nvSpPr>
        <p:spPr>
          <a:xfrm>
            <a:off x="6429240" y="500040"/>
            <a:ext cx="142920" cy="14292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4932360" y="197964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5"/>
          <p:cNvSpPr/>
          <p:nvPr/>
        </p:nvSpPr>
        <p:spPr>
          <a:xfrm>
            <a:off x="6429240" y="3429000"/>
            <a:ext cx="142920" cy="14292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61"/>
          <p:cNvSpPr/>
          <p:nvPr/>
        </p:nvSpPr>
        <p:spPr>
          <a:xfrm>
            <a:off x="360720" y="5000760"/>
            <a:ext cx="11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лов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Домашнее 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CRCTR122"/>
          <p:cNvPicPr/>
          <p:nvPr/>
        </p:nvPicPr>
        <p:blipFill>
          <a:blip r:embed="rId1"/>
          <a:stretch/>
        </p:blipFill>
        <p:spPr>
          <a:xfrm>
            <a:off x="5916600" y="1413000"/>
            <a:ext cx="3227400" cy="407664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7"/>
          <p:cNvSpPr/>
          <p:nvPr/>
        </p:nvSpPr>
        <p:spPr>
          <a:xfrm rot="10800000">
            <a:off x="323640" y="3429000"/>
            <a:ext cx="5903640" cy="2643120"/>
          </a:xfrm>
          <a:prstGeom prst="cloudCallout">
            <a:avLst>
              <a:gd name="adj1" fmla="val -51805"/>
              <a:gd name="adj2" fmla="val 5675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897,898,899 (2,4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тр. 2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116000" y="5950080"/>
            <a:ext cx="6985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!</a:t>
            </a:r>
            <a:endParaRPr b="1" i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pull dir="ru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Содержимое 6" descr="Рисунок1.wmf"/>
          <p:cNvPicPr/>
          <p:nvPr/>
        </p:nvPicPr>
        <p:blipFill>
          <a:blip r:embed="rId1"/>
          <a:stretch/>
        </p:blipFill>
        <p:spPr>
          <a:xfrm>
            <a:off x="857160" y="0"/>
            <a:ext cx="7286760" cy="4286160"/>
          </a:xfrm>
          <a:prstGeom prst="rect">
            <a:avLst/>
          </a:prstGeom>
          <a:ln w="0">
            <a:noFill/>
          </a:ln>
        </p:spPr>
      </p:pic>
      <p:pic>
        <p:nvPicPr>
          <p:cNvPr id="558" name="Прямоугольник 7" descr=""/>
          <p:cNvPicPr/>
          <p:nvPr/>
        </p:nvPicPr>
        <p:blipFill>
          <a:blip r:embed="rId2"/>
          <a:stretch/>
        </p:blipFill>
        <p:spPr>
          <a:xfrm>
            <a:off x="1401840" y="158760"/>
            <a:ext cx="2921040" cy="1974960"/>
          </a:xfrm>
          <a:prstGeom prst="rect">
            <a:avLst/>
          </a:prstGeom>
          <a:ln w="0">
            <a:noFill/>
          </a:ln>
        </p:spPr>
      </p:pic>
      <p:pic>
        <p:nvPicPr>
          <p:cNvPr id="559" name="Прямоугольник 9" descr=""/>
          <p:cNvPicPr/>
          <p:nvPr/>
        </p:nvPicPr>
        <p:blipFill>
          <a:blip r:embed="rId3"/>
          <a:stretch/>
        </p:blipFill>
        <p:spPr>
          <a:xfrm>
            <a:off x="4389480" y="4121280"/>
            <a:ext cx="3925800" cy="1554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 Box 2" descr=""/>
          <p:cNvPicPr/>
          <p:nvPr/>
        </p:nvPicPr>
        <p:blipFill>
          <a:blip r:embed="rId1"/>
          <a:stretch/>
        </p:blipFill>
        <p:spPr>
          <a:xfrm>
            <a:off x="1163520" y="3492360"/>
            <a:ext cx="7662960" cy="2530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Коменский"/>
          <p:cNvPicPr/>
          <p:nvPr/>
        </p:nvPicPr>
        <p:blipFill>
          <a:blip r:embed="rId2"/>
          <a:stretch/>
        </p:blipFill>
        <p:spPr>
          <a:xfrm>
            <a:off x="3597120" y="298440"/>
            <a:ext cx="2627640" cy="2921040"/>
          </a:xfrm>
          <a:prstGeom prst="rect">
            <a:avLst/>
          </a:prstGeom>
          <a:ln w="0">
            <a:noFill/>
          </a:ln>
        </p:spPr>
      </p:pic>
      <p:pic>
        <p:nvPicPr>
          <p:cNvPr id="562" name="Text Box 5" descr=""/>
          <p:cNvPicPr/>
          <p:nvPr/>
        </p:nvPicPr>
        <p:blipFill>
          <a:blip r:embed="rId3"/>
          <a:stretch/>
        </p:blipFill>
        <p:spPr>
          <a:xfrm>
            <a:off x="4687920" y="5430960"/>
            <a:ext cx="5499000" cy="1066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BS00554_"/>
          <p:cNvPicPr/>
          <p:nvPr/>
        </p:nvPicPr>
        <p:blipFill>
          <a:blip r:embed="rId4"/>
          <a:stretch/>
        </p:blipFill>
        <p:spPr>
          <a:xfrm>
            <a:off x="857160" y="5143680"/>
            <a:ext cx="196380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nodeType="clickEffect" fill="hold">
                      <p:stCondLst>
                        <p:cond delay="0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WordArt 8" descr=""/>
          <p:cNvPicPr/>
          <p:nvPr/>
        </p:nvPicPr>
        <p:blipFill>
          <a:blip r:embed="rId1"/>
          <a:stretch/>
        </p:blipFill>
        <p:spPr>
          <a:xfrm>
            <a:off x="-792000" y="1006560"/>
            <a:ext cx="9485280" cy="552276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2" name="applause.wav"/>
      </p:stSnd>
    </p:sndAc>
  </p:transition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0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341360"/>
            <a:ext cx="7332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бобщить знания по теме  «Решение простейших тригонометрических уравнений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верить практические навыки и  умения учащихся при решении уравн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учить применять знания, умения и навыки в нов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ка домашнего за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Решить уравн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66840" y="2409840"/>
            <a:ext cx="2805120" cy="147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1285920" y="4164120"/>
                <a:ext cx="578628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к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к</m:t>
                    </m:r>
                    <m:r>
                      <m:t xml:space="preserve">,</m:t>
                    </m:r>
                    <m:r>
                      <m:t xml:space="preserve">к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3920" y="272880"/>
            <a:ext cx="2251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3000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корни уравн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длежащие промежутку [0;π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4861080" y="1000080"/>
                <a:ext cx="2779560" cy="587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±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к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к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Ζ</m:t>
                                </m:r>
                              </m:e>
                            </m:bar>
                          </m:e>
                        </m:bar>
                      </m:e>
                      <m:e>
                        <m:r>
                          <m:t xml:space="preserve">к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к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85920" y="2643120"/>
            <a:ext cx="193356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умму корней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g x=-√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надлежащих промежу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π;π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1500120" y="3594240"/>
                <a:ext cx="52149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πк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к</m:t>
                        </m:r>
                        <m:r>
                          <m:t xml:space="preserve">,</m:t>
                        </m:r>
                        <m:r>
                          <m:t xml:space="preserve">к</m:t>
                        </m:r>
                        <m:r>
                          <m:t xml:space="preserve">∈</m:t>
                        </m:r>
                        <m:r>
                          <m:t xml:space="preserve">Ζ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Содержимое 3"/>
              <p:cNvSpPr txBox="1"/>
              <p:nvPr/>
            </p:nvSpPr>
            <p:spPr>
              <a:xfrm>
                <a:off x="1071720" y="428760"/>
                <a:ext cx="3857400" cy="56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к</m:t>
                        </m:r>
                        <m:r>
                          <m:t xml:space="preserve">≤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к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к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к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Содержимое 5"/>
              <p:cNvSpPr txBox="1"/>
              <p:nvPr/>
            </p:nvSpPr>
            <p:spPr>
              <a:xfrm>
                <a:off x="4788000" y="2523960"/>
                <a:ext cx="375768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714240"/>
            <a:ext cx="4572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езультат учения равен произведению способности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а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старательность равна нулю, то и все произведение равно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способности есть у каждого»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32"/>
          <p:cNvPicPr/>
          <p:nvPr/>
        </p:nvPicPr>
        <p:blipFill>
          <a:blip r:embed="rId1"/>
          <a:stretch/>
        </p:blipFill>
        <p:spPr>
          <a:xfrm>
            <a:off x="5857920" y="642960"/>
            <a:ext cx="3286080" cy="547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3:56:44Z</dcterms:created>
  <dc:creator>alex</dc:creator>
  <dc:description/>
  <dc:language>en-US</dc:language>
  <cp:lastModifiedBy>uzer</cp:lastModifiedBy>
  <dcterms:modified xsi:type="dcterms:W3CDTF">2020-11-02T14:45:52Z</dcterms:modified>
  <cp:revision>223</cp:revision>
  <dc:subject/>
  <dc:title>Слайд 1</dc:title>
</cp:coreProperties>
</file>